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43534"/>
        <c:axId val="81766378"/>
      </c:barChart>
      <c:catAx>
        <c:axId val="81043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66378"/>
        <c:crosses val="autoZero"/>
        <c:auto val="1"/>
        <c:lblAlgn val="ctr"/>
        <c:lblOffset val="100"/>
        <c:noMultiLvlLbl val="0"/>
      </c:catAx>
      <c:valAx>
        <c:axId val="81766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3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067-3576-4BA6-AE8C-44B85B25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D06-57C6-4BA1-8DDE-AD6B914D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C1F-FB28-446E-AF2B-F97B10AE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8B5-9A1E-488A-B6E0-46862FE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0A0-1CE4-4C7B-8C83-68E7816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B92-9B9A-4CE7-A35E-62B9DD19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7C4-5CDB-4F48-8720-38B9D0A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295-108D-4E82-93D5-447EC9B0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7E7-47E6-42B7-9695-E02F4884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EB6-656E-46B6-BC3F-5323063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A78-FC3C-4A54-B2C9-A54A3A3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F6D-869B-4006-BCA9-E0AB4CF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D8050-DF43-4468-9C1E-F5C1939852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