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75487"/>
        <c:axId val="10452267"/>
      </c:barChart>
      <c:catAx>
        <c:axId val="49875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52267"/>
        <c:crosses val="autoZero"/>
        <c:auto val="1"/>
        <c:lblAlgn val="ctr"/>
        <c:lblOffset val="100"/>
        <c:noMultiLvlLbl val="0"/>
      </c:catAx>
      <c:valAx>
        <c:axId val="10452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75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A54-0BFA-4904-93C0-8588EF51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550-25B5-4AA3-9247-963EB5C9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13E-3887-4BB4-9EA5-457A483A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D40-E840-4D16-AD76-5D7DE4CD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6D9-B32D-4556-865F-42D10F0E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973-6D1A-4A94-805C-0A247EF4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14F-7663-4F50-8864-675AB160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C8A-8DA6-43E1-8C85-7162D0D1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711-EBC4-44D7-A98D-E248CC9C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308-4244-4D05-8320-3B503338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9F3-8D6B-4B7E-928F-C5A07431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388-281F-4DE4-8828-A50CD55F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A11E6-565D-457D-825B-D5FCC5FF34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