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676011"/>
        <c:axId val="22993235"/>
      </c:barChart>
      <c:catAx>
        <c:axId val="316760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993235"/>
        <c:crosses val="autoZero"/>
        <c:auto val="1"/>
        <c:lblAlgn val="ctr"/>
        <c:lblOffset val="100"/>
        <c:noMultiLvlLbl val="0"/>
      </c:catAx>
      <c:valAx>
        <c:axId val="229932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6760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F814-907E-40CC-8CA8-2C7310076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458A-FE5F-4CB3-B23A-D98DA828B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2F9D-2E86-4AD5-A5F4-ABB2146F7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4F0A-1A5C-4F82-95EC-AE2117A08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3524-21C9-4BFE-858A-F4F13B5E1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1719-8330-41BE-936C-947A7EA31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EAEB-26BB-41AD-9EC4-6341F847D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D11D-5FBA-432B-A66A-DFBFD5B82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B05E-BA0B-42F8-9294-8F8C99372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5E80-AFCD-4694-8E73-19988F4D5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E899-7797-494F-9B1E-F467DD3A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6D23-D54F-4F85-BF8A-6791B672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F6E322-3B50-47DF-B058-BF9308BAAE6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