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77853"/>
        <c:axId val="9821387"/>
      </c:barChart>
      <c:catAx>
        <c:axId val="4317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1387"/>
        <c:crosses val="autoZero"/>
        <c:auto val="1"/>
        <c:lblAlgn val="ctr"/>
        <c:lblOffset val="100"/>
        <c:noMultiLvlLbl val="0"/>
      </c:catAx>
      <c:valAx>
        <c:axId val="9821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7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BCB-824D-456B-BD6C-70BDA5EA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8BD-ABD9-4BEC-A160-25ECF04F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F42-E223-46A5-BDB9-A3E1A468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D6B-1BBF-4C2F-A2D0-D44280CD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084-AC4E-4477-B5DE-EEC46A24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9F4-B554-4D8F-B83E-51308823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ED9-F799-46D4-96E6-457C7FC6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9E3-D167-40BD-A3DA-E0D92785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5BE-D456-43B4-90AC-59C04591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F15-7509-4939-AD01-71C8BDE0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A3E-638F-4C6C-B5CF-0CF47B77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29D-8E6E-462A-9B92-D39CBC45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AA0FC-B462-46F5-82AB-B4EB948EE1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