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6455"/>
        <c:axId val="86332053"/>
      </c:barChart>
      <c:catAx>
        <c:axId val="7946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32053"/>
        <c:crosses val="autoZero"/>
        <c:auto val="1"/>
        <c:lblAlgn val="ctr"/>
        <c:lblOffset val="100"/>
        <c:noMultiLvlLbl val="0"/>
      </c:catAx>
      <c:valAx>
        <c:axId val="86332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6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846-2D78-4861-B002-9A58B97A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FE7-52F2-4461-A64E-63F38B00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36A-F087-4783-AA65-CE144D15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FD4-ED8C-43C8-87C5-ED1977DB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D33-04E2-442F-A2F6-9C0A8D6F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43C-FCDE-4C13-9946-E1D8EA6B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2AD-8E5F-4B72-B5E5-306F1317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E88-B459-4635-BBB8-E5D69505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99BA-EEA6-4437-BE84-9AA6F30A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714-DF6A-48B2-9595-CFEF5A4A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823-5D81-43A5-896C-24B5D67A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6DB-8F3C-420A-A47A-C18FEA57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3BDA4-6D80-48E9-88CB-EF8FDF6B7D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