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4883B-790D-4593-89CC-21853CD8A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040C9-FDDA-4E0B-B72C-12A6661C2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0C2B0-81C3-422A-B7E3-BCE0BE9EC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B1D42-9703-423D-B6B3-A28D2FA6C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1D490-C046-4689-99EF-29E3A05F7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02070-28C7-4A13-913E-1B95F4163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7D5BD-FB68-48F3-93BC-05110588D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BD7B0-5E5B-4EF0-AED2-C4EA0F182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23E13-5669-4825-8516-FB8A76BC2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26A0A-12FC-4FCE-87A3-7A3B54E5A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72AC0-1F18-4583-93AF-B765D1C65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E5FEB-D428-41D0-A2A2-E575E13BF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7C56A-F0E5-4E3D-9808-1AE7847DB1B4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ＳｌｏｔｈＬｉｂＴｅｓｔ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Times New Roman"/>
              </a:rPr>
              <a:t>これはテストのためのドキュメントです．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２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なかだ</cp:lastModifiedBy>
  <dcterms:modified xsi:type="dcterms:W3CDTF">2008-04-10T04:52:20Z</dcterms:modified>
  <cp:revision>1</cp:revision>
  <dc:subject/>
  <dc:title>PowerPoint Presentation</dc:title>
</cp:coreProperties>
</file>