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660C-6DDC-4149-BC7D-B3DB6F3B6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6F63-EBF2-4AD0-8145-D47748776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12355-AC88-485F-A1D0-B69F64F19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2BED-B487-4D77-99F1-EC13DF00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6E7F-1C76-438D-A1AF-9FBDBBE7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CB55-A2C0-4C82-AF3E-D1B24721F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8A8C-9E96-4FE1-903D-472C335A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2E4B-08B4-45BC-95A1-CBE317F59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AE2D5-2D7D-4D2C-84D1-196805274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60BB-B2CF-4042-8F62-A7B49F10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EC7-1A8A-4426-A9BC-8771A1345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83E-720C-453A-988A-80B65C125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56E30-05DC-4272-8C77-5EFA030891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438280" y="914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to form sentence HMM for de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629400" y="63244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ita Singh, May 10,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22" name=""/>
          <p:cNvCxnSpPr>
            <a:stCxn id="598" idx="3"/>
            <a:endCxn id="61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3" name=""/>
          <p:cNvCxnSpPr>
            <a:stCxn id="601" idx="3"/>
            <a:endCxn id="61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4" name=""/>
          <p:cNvCxnSpPr>
            <a:stCxn id="604" idx="3"/>
            <a:endCxn id="61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5" name=""/>
          <p:cNvCxnSpPr>
            <a:stCxn id="607" idx="3"/>
            <a:endCxn id="61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6" name=""/>
          <p:cNvCxnSpPr>
            <a:stCxn id="619" idx="3"/>
            <a:endCxn id="61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7" name=""/>
          <p:cNvCxnSpPr>
            <a:stCxn id="619" idx="3"/>
            <a:endCxn id="61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8" name=""/>
          <p:cNvCxnSpPr>
            <a:stCxn id="619" idx="3"/>
            <a:endCxn id="61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9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54" name=""/>
          <p:cNvCxnSpPr>
            <a:stCxn id="630" idx="3"/>
            <a:endCxn id="651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5" name=""/>
          <p:cNvCxnSpPr>
            <a:stCxn id="633" idx="3"/>
            <a:endCxn id="651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6" name=""/>
          <p:cNvCxnSpPr>
            <a:stCxn id="636" idx="3"/>
            <a:endCxn id="651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7" name=""/>
          <p:cNvCxnSpPr>
            <a:stCxn id="639" idx="3"/>
            <a:endCxn id="651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8" name=""/>
          <p:cNvCxnSpPr>
            <a:stCxn id="651" idx="3"/>
            <a:endCxn id="648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9" name=""/>
          <p:cNvCxnSpPr>
            <a:stCxn id="651" idx="3"/>
            <a:endCxn id="645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0" name=""/>
          <p:cNvCxnSpPr>
            <a:stCxn id="651" idx="3"/>
            <a:endCxn id="642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1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5" name=""/>
          <p:cNvCxnSpPr>
            <a:stCxn id="661" idx="3"/>
            <a:endCxn id="682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6" name=""/>
          <p:cNvCxnSpPr>
            <a:stCxn id="664" idx="3"/>
            <a:endCxn id="682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7" name=""/>
          <p:cNvCxnSpPr>
            <a:stCxn id="667" idx="3"/>
            <a:endCxn id="682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8" name=""/>
          <p:cNvCxnSpPr>
            <a:stCxn id="670" idx="3"/>
            <a:endCxn id="682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9" name=""/>
          <p:cNvCxnSpPr>
            <a:stCxn id="682" idx="3"/>
            <a:endCxn id="679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0" name=""/>
          <p:cNvCxnSpPr>
            <a:stCxn id="682" idx="3"/>
            <a:endCxn id="676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1" name=""/>
          <p:cNvCxnSpPr>
            <a:stCxn id="682" idx="3"/>
            <a:endCxn id="673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2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4" name=""/>
          <p:cNvCxnSpPr>
            <a:stCxn id="616" idx="3"/>
            <a:endCxn id="630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5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6" name=""/>
          <p:cNvCxnSpPr>
            <a:stCxn id="613" idx="3"/>
            <a:endCxn id="661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7" name=""/>
          <p:cNvCxnSpPr>
            <a:stCxn id="616" idx="3"/>
            <a:endCxn id="598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8" name=""/>
          <p:cNvCxnSpPr>
            <a:stCxn id="610" idx="3"/>
            <a:endCxn id="692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9" name=""/>
          <p:cNvCxnSpPr>
            <a:stCxn id="610" idx="3"/>
            <a:endCxn id="693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0" name=""/>
          <p:cNvCxnSpPr>
            <a:stCxn id="642" idx="3"/>
            <a:endCxn id="692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1" name=""/>
          <p:cNvCxnSpPr>
            <a:stCxn id="645" idx="3"/>
            <a:endCxn id="664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2" name=""/>
          <p:cNvCxnSpPr>
            <a:stCxn id="642" idx="3"/>
            <a:endCxn id="693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3" name=""/>
          <p:cNvCxnSpPr>
            <a:stCxn id="673" idx="3"/>
            <a:endCxn id="692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4" name=""/>
          <p:cNvCxnSpPr>
            <a:stCxn id="673" idx="3"/>
            <a:endCxn id="693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5" name=""/>
          <p:cNvCxnSpPr>
            <a:stCxn id="648" idx="3"/>
            <a:endCxn id="633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6" name=""/>
          <p:cNvCxnSpPr>
            <a:stCxn id="648" idx="3"/>
            <a:endCxn id="601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7" name=""/>
          <p:cNvCxnSpPr>
            <a:stCxn id="679" idx="3"/>
            <a:endCxn id="604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8" name=""/>
          <p:cNvCxnSpPr>
            <a:stCxn id="679" idx="3"/>
            <a:endCxn id="636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9" name=""/>
          <p:cNvCxnSpPr>
            <a:stCxn id="676" idx="3"/>
            <a:endCxn id="667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0" name=""/>
          <p:cNvCxnSpPr>
            <a:stCxn id="692" idx="3"/>
            <a:endCxn id="670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1" name=""/>
          <p:cNvCxnSpPr>
            <a:stCxn id="692" idx="3"/>
            <a:endCxn id="639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2" name=""/>
          <p:cNvCxnSpPr>
            <a:stCxn id="692" idx="3"/>
            <a:endCxn id="607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3" name=""/>
          <p:cNvCxnSpPr>
            <a:stCxn id="692" idx="3"/>
            <a:endCxn id="692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4" name=""/>
          <p:cNvCxnSpPr>
            <a:stCxn id="692" idx="3"/>
            <a:endCxn id="693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5" name=""/>
          <p:cNvCxnSpPr>
            <a:stCxn id="693" idx="3"/>
            <a:endCxn id="693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6" name=""/>
          <p:cNvCxnSpPr>
            <a:stCxn id="693" idx="3"/>
            <a:endCxn id="692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3" idx="3"/>
            <a:endCxn id="667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39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07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9" name=""/>
          <p:cNvCxnSpPr>
            <a:stCxn id="735" idx="3"/>
            <a:endCxn id="75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0" name=""/>
          <p:cNvCxnSpPr>
            <a:stCxn id="738" idx="3"/>
            <a:endCxn id="75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1" name=""/>
          <p:cNvCxnSpPr>
            <a:stCxn id="741" idx="3"/>
            <a:endCxn id="75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2" name=""/>
          <p:cNvCxnSpPr>
            <a:stCxn id="744" idx="3"/>
            <a:endCxn id="75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3" name=""/>
          <p:cNvCxnSpPr>
            <a:stCxn id="756" idx="3"/>
            <a:endCxn id="75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4" name=""/>
          <p:cNvCxnSpPr>
            <a:stCxn id="756" idx="3"/>
            <a:endCxn id="75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5" name=""/>
          <p:cNvCxnSpPr>
            <a:stCxn id="756" idx="3"/>
            <a:endCxn id="74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"/>
          <p:cNvCxnSpPr>
            <a:stCxn id="767" idx="3"/>
            <a:endCxn id="78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2" name=""/>
          <p:cNvCxnSpPr>
            <a:stCxn id="770" idx="3"/>
            <a:endCxn id="78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3" name=""/>
          <p:cNvCxnSpPr>
            <a:stCxn id="773" idx="3"/>
            <a:endCxn id="78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4" name=""/>
          <p:cNvCxnSpPr>
            <a:stCxn id="776" idx="3"/>
            <a:endCxn id="78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5" name=""/>
          <p:cNvCxnSpPr>
            <a:stCxn id="788" idx="3"/>
            <a:endCxn id="78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6" name=""/>
          <p:cNvCxnSpPr>
            <a:stCxn id="788" idx="3"/>
            <a:endCxn id="78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7" name=""/>
          <p:cNvCxnSpPr>
            <a:stCxn id="788" idx="3"/>
            <a:endCxn id="77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2" name=""/>
          <p:cNvCxnSpPr>
            <a:stCxn id="798" idx="3"/>
            <a:endCxn id="81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3" name=""/>
          <p:cNvCxnSpPr>
            <a:stCxn id="801" idx="3"/>
            <a:endCxn id="81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4" name=""/>
          <p:cNvCxnSpPr>
            <a:stCxn id="804" idx="3"/>
            <a:endCxn id="81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5" name=""/>
          <p:cNvCxnSpPr>
            <a:stCxn id="807" idx="3"/>
            <a:endCxn id="81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6" name=""/>
          <p:cNvCxnSpPr>
            <a:stCxn id="819" idx="3"/>
            <a:endCxn id="81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7" name=""/>
          <p:cNvCxnSpPr>
            <a:stCxn id="819" idx="3"/>
            <a:endCxn id="81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28" name=""/>
          <p:cNvCxnSpPr>
            <a:stCxn id="819" idx="3"/>
            <a:endCxn id="81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1" name=""/>
          <p:cNvCxnSpPr>
            <a:stCxn id="753" idx="3"/>
            <a:endCxn id="76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2" name=""/>
          <p:cNvSpPr/>
          <p:nvPr/>
        </p:nvSpPr>
        <p:spPr>
          <a:xfrm>
            <a:off x="6324480" y="4952880"/>
            <a:ext cx="2590920" cy="161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All linking rul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gin goes to all sile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ft contex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ilence right contexts go to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3" name=""/>
          <p:cNvCxnSpPr>
            <a:stCxn id="750" idx="3"/>
            <a:endCxn id="798" idx="1"/>
          </p:cNvCxnSpPr>
          <p:nvPr/>
        </p:nvCxnSpPr>
        <p:spPr>
          <a:xfrm flipH="1">
            <a:off x="3123720" y="1295280"/>
            <a:ext cx="1982160" cy="2820240"/>
          </a:xfrm>
          <a:prstGeom prst="bentConnector5">
            <a:avLst>
              <a:gd name="adj1" fmla="val -15694"/>
              <a:gd name="adj2" fmla="val 93961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4" name=""/>
          <p:cNvCxnSpPr>
            <a:stCxn id="753" idx="3"/>
            <a:endCxn id="735" idx="1"/>
          </p:cNvCxnSpPr>
          <p:nvPr/>
        </p:nvCxnSpPr>
        <p:spPr>
          <a:xfrm flipH="1">
            <a:off x="3123720" y="914400"/>
            <a:ext cx="1982160" cy="2160"/>
          </a:xfrm>
          <a:prstGeom prst="bentConnector5">
            <a:avLst>
              <a:gd name="adj1" fmla="val -11534"/>
              <a:gd name="adj2" fmla="val -1920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5" name=""/>
          <p:cNvCxnSpPr>
            <a:stCxn id="747" idx="3"/>
            <a:endCxn id="829" idx="1"/>
          </p:cNvCxnSpPr>
          <p:nvPr/>
        </p:nvCxnSpPr>
        <p:spPr>
          <a:xfrm flipH="1">
            <a:off x="4038120" y="1676520"/>
            <a:ext cx="1067760" cy="4115520"/>
          </a:xfrm>
          <a:prstGeom prst="bentConnector5">
            <a:avLst>
              <a:gd name="adj1" fmla="val -41214"/>
              <a:gd name="adj2" fmla="val 94943"/>
              <a:gd name="adj3" fmla="val 21025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6" name=""/>
          <p:cNvCxnSpPr>
            <a:stCxn id="747" idx="3"/>
            <a:endCxn id="830" idx="1"/>
          </p:cNvCxnSpPr>
          <p:nvPr/>
        </p:nvCxnSpPr>
        <p:spPr>
          <a:xfrm flipH="1">
            <a:off x="4038120" y="1676160"/>
            <a:ext cx="1067760" cy="4725000"/>
          </a:xfrm>
          <a:prstGeom prst="bentConnector5">
            <a:avLst>
              <a:gd name="adj1" fmla="val -42091"/>
              <a:gd name="adj2" fmla="val 96434"/>
              <a:gd name="adj3" fmla="val 2072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7" name=""/>
          <p:cNvCxnSpPr>
            <a:stCxn id="779" idx="3"/>
            <a:endCxn id="829" idx="1"/>
          </p:cNvCxnSpPr>
          <p:nvPr/>
        </p:nvCxnSpPr>
        <p:spPr>
          <a:xfrm flipH="1">
            <a:off x="4038120" y="3276360"/>
            <a:ext cx="1067760" cy="2515320"/>
          </a:xfrm>
          <a:prstGeom prst="bentConnector5">
            <a:avLst>
              <a:gd name="adj1" fmla="val -53861"/>
              <a:gd name="adj2" fmla="val 90022"/>
              <a:gd name="adj3" fmla="val 22883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8" name=""/>
          <p:cNvCxnSpPr>
            <a:stCxn id="782" idx="3"/>
            <a:endCxn id="801" idx="1"/>
          </p:cNvCxnSpPr>
          <p:nvPr/>
        </p:nvCxnSpPr>
        <p:spPr>
          <a:xfrm flipH="1">
            <a:off x="3123720" y="2895120"/>
            <a:ext cx="1982160" cy="1600920"/>
          </a:xfrm>
          <a:prstGeom prst="bentConnector5">
            <a:avLst>
              <a:gd name="adj1" fmla="val -33642"/>
              <a:gd name="adj2" fmla="val 61088"/>
              <a:gd name="adj3" fmla="val 1184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39" name=""/>
          <p:cNvCxnSpPr>
            <a:stCxn id="779" idx="3"/>
            <a:endCxn id="830" idx="1"/>
          </p:cNvCxnSpPr>
          <p:nvPr/>
        </p:nvCxnSpPr>
        <p:spPr>
          <a:xfrm flipH="1">
            <a:off x="4038120" y="3276720"/>
            <a:ext cx="1067760" cy="3124800"/>
          </a:xfrm>
          <a:prstGeom prst="bentConnector5">
            <a:avLst>
              <a:gd name="adj1" fmla="val -50860"/>
              <a:gd name="adj2" fmla="val 92015"/>
              <a:gd name="adj3" fmla="val 2270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0" name=""/>
          <p:cNvCxnSpPr>
            <a:stCxn id="810" idx="3"/>
            <a:endCxn id="829" idx="1"/>
          </p:cNvCxnSpPr>
          <p:nvPr/>
        </p:nvCxnSpPr>
        <p:spPr>
          <a:xfrm flipH="1">
            <a:off x="4038120" y="4876920"/>
            <a:ext cx="1067760" cy="915120"/>
          </a:xfrm>
          <a:prstGeom prst="bentConnector5">
            <a:avLst>
              <a:gd name="adj1" fmla="val -21416"/>
              <a:gd name="adj2" fmla="val 64738"/>
              <a:gd name="adj3" fmla="val 24269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1" name=""/>
          <p:cNvCxnSpPr>
            <a:stCxn id="810" idx="3"/>
            <a:endCxn id="830" idx="1"/>
          </p:cNvCxnSpPr>
          <p:nvPr/>
        </p:nvCxnSpPr>
        <p:spPr>
          <a:xfrm flipH="1">
            <a:off x="4038120" y="4876560"/>
            <a:ext cx="1067760" cy="1524600"/>
          </a:xfrm>
          <a:prstGeom prst="bentConnector5">
            <a:avLst>
              <a:gd name="adj1" fmla="val -21416"/>
              <a:gd name="adj2" fmla="val 75389"/>
              <a:gd name="adj3" fmla="val 24478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2" name=""/>
          <p:cNvCxnSpPr>
            <a:stCxn id="785" idx="3"/>
            <a:endCxn id="770" idx="1"/>
          </p:cNvCxnSpPr>
          <p:nvPr/>
        </p:nvCxnSpPr>
        <p:spPr>
          <a:xfrm flipH="1">
            <a:off x="3123720" y="2514600"/>
            <a:ext cx="1982160" cy="381600"/>
          </a:xfrm>
          <a:prstGeom prst="bentConnector5">
            <a:avLst>
              <a:gd name="adj1" fmla="val -11534"/>
              <a:gd name="adj2" fmla="val 49952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3" name=""/>
          <p:cNvCxnSpPr>
            <a:stCxn id="785" idx="3"/>
            <a:endCxn id="738" idx="1"/>
          </p:cNvCxnSpPr>
          <p:nvPr/>
        </p:nvCxnSpPr>
        <p:spPr>
          <a:xfrm flipH="1" flipV="1">
            <a:off x="3123720" y="1294560"/>
            <a:ext cx="1982160" cy="1220040"/>
          </a:xfrm>
          <a:prstGeom prst="bentConnector5">
            <a:avLst>
              <a:gd name="adj1" fmla="val -7211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4" name=""/>
          <p:cNvCxnSpPr>
            <a:stCxn id="816" idx="3"/>
            <a:endCxn id="741" idx="1"/>
          </p:cNvCxnSpPr>
          <p:nvPr/>
        </p:nvCxnSpPr>
        <p:spPr>
          <a:xfrm flipH="1" flipV="1">
            <a:off x="3123720" y="1675800"/>
            <a:ext cx="1982160" cy="2439000"/>
          </a:xfrm>
          <a:prstGeom prst="bentConnector5">
            <a:avLst>
              <a:gd name="adj1" fmla="val -11534"/>
              <a:gd name="adj2" fmla="val 11573"/>
              <a:gd name="adj3" fmla="val 13324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5" name=""/>
          <p:cNvCxnSpPr>
            <a:stCxn id="816" idx="3"/>
            <a:endCxn id="773" idx="1"/>
          </p:cNvCxnSpPr>
          <p:nvPr/>
        </p:nvCxnSpPr>
        <p:spPr>
          <a:xfrm flipH="1" flipV="1">
            <a:off x="3123720" y="3276360"/>
            <a:ext cx="1982160" cy="838800"/>
          </a:xfrm>
          <a:prstGeom prst="bentConnector5">
            <a:avLst>
              <a:gd name="adj1" fmla="val -2888"/>
              <a:gd name="adj2" fmla="val 7252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6" name=""/>
          <p:cNvCxnSpPr>
            <a:stCxn id="813" idx="3"/>
            <a:endCxn id="804" idx="1"/>
          </p:cNvCxnSpPr>
          <p:nvPr/>
        </p:nvCxnSpPr>
        <p:spPr>
          <a:xfrm flipH="1">
            <a:off x="3123720" y="4495320"/>
            <a:ext cx="1982160" cy="381960"/>
          </a:xfrm>
          <a:prstGeom prst="bentConnector5">
            <a:avLst>
              <a:gd name="adj1" fmla="val -11534"/>
              <a:gd name="adj2" fmla="val 50000"/>
              <a:gd name="adj3" fmla="val 1115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7" name=""/>
          <p:cNvCxnSpPr>
            <a:stCxn id="829" idx="3"/>
            <a:endCxn id="807" idx="1"/>
          </p:cNvCxnSpPr>
          <p:nvPr/>
        </p:nvCxnSpPr>
        <p:spPr>
          <a:xfrm flipH="1" flipV="1">
            <a:off x="3123720" y="5257440"/>
            <a:ext cx="1067760" cy="534240"/>
          </a:xfrm>
          <a:prstGeom prst="bentConnector5">
            <a:avLst>
              <a:gd name="adj1" fmla="val -21416"/>
              <a:gd name="adj2" fmla="val 130613"/>
              <a:gd name="adj3" fmla="val 1786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8" name=""/>
          <p:cNvCxnSpPr>
            <a:stCxn id="829" idx="3"/>
            <a:endCxn id="776" idx="1"/>
          </p:cNvCxnSpPr>
          <p:nvPr/>
        </p:nvCxnSpPr>
        <p:spPr>
          <a:xfrm flipH="1" flipV="1">
            <a:off x="3123720" y="3656880"/>
            <a:ext cx="1067760" cy="2134440"/>
          </a:xfrm>
          <a:prstGeom prst="bentConnector5">
            <a:avLst>
              <a:gd name="adj1" fmla="val -21416"/>
              <a:gd name="adj2" fmla="val 33248"/>
              <a:gd name="adj3" fmla="val 21160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49" name=""/>
          <p:cNvCxnSpPr>
            <a:stCxn id="829" idx="3"/>
            <a:endCxn id="744" idx="1"/>
          </p:cNvCxnSpPr>
          <p:nvPr/>
        </p:nvCxnSpPr>
        <p:spPr>
          <a:xfrm flipH="1" flipV="1">
            <a:off x="3123720" y="2057040"/>
            <a:ext cx="1067760" cy="3734640"/>
          </a:xfrm>
          <a:prstGeom prst="bentConnector5">
            <a:avLst>
              <a:gd name="adj1" fmla="val -21416"/>
              <a:gd name="adj2" fmla="val 18490"/>
              <a:gd name="adj3" fmla="val 23092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0" name=""/>
          <p:cNvCxnSpPr>
            <a:stCxn id="829" idx="3"/>
            <a:endCxn id="829" idx="1"/>
          </p:cNvCxnSpPr>
          <p:nvPr/>
        </p:nvCxnSpPr>
        <p:spPr>
          <a:xfrm flipH="1">
            <a:off x="4038120" y="5791320"/>
            <a:ext cx="153360" cy="2160"/>
          </a:xfrm>
          <a:prstGeom prst="bentConnector5">
            <a:avLst>
              <a:gd name="adj1" fmla="val -149882"/>
              <a:gd name="adj2" fmla="val -44400000"/>
              <a:gd name="adj3" fmla="val 16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1" name=""/>
          <p:cNvCxnSpPr>
            <a:stCxn id="829" idx="3"/>
            <a:endCxn id="830" idx="1"/>
          </p:cNvCxnSpPr>
          <p:nvPr/>
        </p:nvCxnSpPr>
        <p:spPr>
          <a:xfrm flipH="1">
            <a:off x="4038120" y="5790960"/>
            <a:ext cx="153360" cy="610200"/>
          </a:xfrm>
          <a:prstGeom prst="bentConnector5">
            <a:avLst>
              <a:gd name="adj1" fmla="val -149882"/>
              <a:gd name="adj2" fmla="val 23671"/>
              <a:gd name="adj3" fmla="val 146352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2" name=""/>
          <p:cNvCxnSpPr>
            <a:stCxn id="830" idx="3"/>
            <a:endCxn id="830" idx="1"/>
          </p:cNvCxnSpPr>
          <p:nvPr/>
        </p:nvCxnSpPr>
        <p:spPr>
          <a:xfrm flipH="1">
            <a:off x="4038120" y="6400800"/>
            <a:ext cx="153360" cy="2160"/>
          </a:xfrm>
          <a:prstGeom prst="bentConnector5">
            <a:avLst>
              <a:gd name="adj1" fmla="val -149882"/>
              <a:gd name="adj2" fmla="val 15900000"/>
              <a:gd name="adj3" fmla="val 24988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3" name=""/>
          <p:cNvCxnSpPr>
            <a:stCxn id="830" idx="3"/>
            <a:endCxn id="829" idx="1"/>
          </p:cNvCxnSpPr>
          <p:nvPr/>
        </p:nvCxnSpPr>
        <p:spPr>
          <a:xfrm flipH="1" flipV="1">
            <a:off x="4038120" y="5790600"/>
            <a:ext cx="153360" cy="610200"/>
          </a:xfrm>
          <a:prstGeom prst="bentConnector5">
            <a:avLst>
              <a:gd name="adj1" fmla="val -161411"/>
              <a:gd name="adj2" fmla="val -55194"/>
              <a:gd name="adj3" fmla="val 20091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4" name=""/>
          <p:cNvCxnSpPr>
            <a:stCxn id="830" idx="3"/>
            <a:endCxn id="804" idx="1"/>
          </p:cNvCxnSpPr>
          <p:nvPr/>
        </p:nvCxnSpPr>
        <p:spPr>
          <a:xfrm flipH="1" flipV="1">
            <a:off x="3123720" y="4876200"/>
            <a:ext cx="1067760" cy="1524600"/>
          </a:xfrm>
          <a:prstGeom prst="bentConnector5">
            <a:avLst>
              <a:gd name="adj1" fmla="val -21416"/>
              <a:gd name="adj2" fmla="val -21752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5" name=""/>
          <p:cNvCxnSpPr>
            <a:stCxn id="830" idx="3"/>
            <a:endCxn id="776" idx="1"/>
          </p:cNvCxnSpPr>
          <p:nvPr/>
        </p:nvCxnSpPr>
        <p:spPr>
          <a:xfrm flipH="1" flipV="1">
            <a:off x="3123720" y="3657240"/>
            <a:ext cx="1067760" cy="2743920"/>
          </a:xfrm>
          <a:prstGeom prst="bentConnector5">
            <a:avLst>
              <a:gd name="adj1" fmla="val -21416"/>
              <a:gd name="adj2" fmla="val -12780"/>
              <a:gd name="adj3" fmla="val 28806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6" name=""/>
          <p:cNvCxnSpPr>
            <a:stCxn id="830" idx="3"/>
            <a:endCxn id="744" idx="1"/>
          </p:cNvCxnSpPr>
          <p:nvPr/>
        </p:nvCxnSpPr>
        <p:spPr>
          <a:xfrm flipH="1" flipV="1">
            <a:off x="3123720" y="2057040"/>
            <a:ext cx="1067760" cy="4343760"/>
          </a:xfrm>
          <a:prstGeom prst="bentConnector5">
            <a:avLst>
              <a:gd name="adj1" fmla="val -21416"/>
              <a:gd name="adj2" fmla="val -8072"/>
              <a:gd name="adj3" fmla="val 32944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57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6097680" y="76212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4" name=""/>
          <p:cNvCxnSpPr>
            <a:stCxn id="747" idx="3"/>
            <a:endCxn id="862" idx="1"/>
          </p:cNvCxnSpPr>
          <p:nvPr/>
        </p:nvCxnSpPr>
        <p:spPr>
          <a:xfrm flipV="1">
            <a:off x="5105160" y="899280"/>
            <a:ext cx="991080" cy="77724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5" name=""/>
          <p:cNvCxnSpPr>
            <a:stCxn id="779" idx="3"/>
            <a:endCxn id="862" idx="1"/>
          </p:cNvCxnSpPr>
          <p:nvPr/>
        </p:nvCxnSpPr>
        <p:spPr>
          <a:xfrm flipV="1">
            <a:off x="5105160" y="899640"/>
            <a:ext cx="991080" cy="2377440"/>
          </a:xfrm>
          <a:prstGeom prst="curvedConnector5">
            <a:avLst>
              <a:gd name="adj1" fmla="val 50000"/>
              <a:gd name="adj2" fmla="val 49992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6" name=""/>
          <p:cNvCxnSpPr>
            <a:stCxn id="810" idx="3"/>
          </p:cNvCxnSpPr>
          <p:nvPr/>
        </p:nvCxnSpPr>
        <p:spPr>
          <a:xfrm flipV="1">
            <a:off x="5105520" y="1142640"/>
            <a:ext cx="1219680" cy="3734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7" name=""/>
          <p:cNvCxnSpPr>
            <a:stCxn id="830" idx="3"/>
            <a:endCxn id="862" idx="3"/>
          </p:cNvCxnSpPr>
          <p:nvPr/>
        </p:nvCxnSpPr>
        <p:spPr>
          <a:xfrm flipV="1">
            <a:off x="4190760" y="899640"/>
            <a:ext cx="2361240" cy="5501520"/>
          </a:xfrm>
          <a:prstGeom prst="curvedConnector5">
            <a:avLst>
              <a:gd name="adj1" fmla="val 103415"/>
              <a:gd name="adj2" fmla="val 49996"/>
              <a:gd name="adj3" fmla="val 1034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8" name=""/>
          <p:cNvCxnSpPr>
            <a:stCxn id="829" idx="3"/>
            <a:endCxn id="862" idx="3"/>
          </p:cNvCxnSpPr>
          <p:nvPr/>
        </p:nvCxnSpPr>
        <p:spPr>
          <a:xfrm flipV="1">
            <a:off x="4190760" y="899280"/>
            <a:ext cx="2361240" cy="4892040"/>
          </a:xfrm>
          <a:prstGeom prst="curvedConnector5">
            <a:avLst>
              <a:gd name="adj1" fmla="val 99451"/>
              <a:gd name="adj2" fmla="val 50000"/>
              <a:gd name="adj3" fmla="val 994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752480" y="152280"/>
            <a:ext cx="4648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other perspective of the complet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4" name=""/>
          <p:cNvCxnSpPr/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5" name=""/>
          <p:cNvCxnSpPr>
            <a:stCxn id="873" idx="3"/>
            <a:endCxn id="891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6" name=""/>
          <p:cNvCxnSpPr>
            <a:stCxn id="876" idx="3"/>
            <a:endCxn id="891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7" name=""/>
          <p:cNvCxnSpPr>
            <a:stCxn id="879" idx="3"/>
            <a:endCxn id="891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8" name=""/>
          <p:cNvCxnSpPr>
            <a:stCxn id="891" idx="3"/>
            <a:endCxn id="888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9" name=""/>
          <p:cNvCxnSpPr>
            <a:stCxn id="891" idx="3"/>
            <a:endCxn id="885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0" name=""/>
          <p:cNvCxnSpPr>
            <a:stCxn id="891" idx="3"/>
            <a:endCxn id="882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5" name=""/>
          <p:cNvCxnSpPr>
            <a:stCxn id="901" idx="3"/>
            <a:endCxn id="92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6" name=""/>
          <p:cNvCxnSpPr>
            <a:stCxn id="904" idx="3"/>
            <a:endCxn id="92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7" name=""/>
          <p:cNvCxnSpPr>
            <a:stCxn id="907" idx="3"/>
            <a:endCxn id="92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8" name=""/>
          <p:cNvCxnSpPr>
            <a:stCxn id="910" idx="3"/>
            <a:endCxn id="92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9" name=""/>
          <p:cNvCxnSpPr>
            <a:stCxn id="922" idx="3"/>
            <a:endCxn id="91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0" name=""/>
          <p:cNvCxnSpPr>
            <a:stCxn id="922" idx="3"/>
            <a:endCxn id="91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1" name=""/>
          <p:cNvCxnSpPr>
            <a:stCxn id="922" idx="3"/>
            <a:endCxn id="91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6" name=""/>
          <p:cNvCxnSpPr>
            <a:stCxn id="932" idx="3"/>
            <a:endCxn id="95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7" name=""/>
          <p:cNvCxnSpPr>
            <a:stCxn id="935" idx="3"/>
            <a:endCxn id="95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8" name=""/>
          <p:cNvCxnSpPr>
            <a:stCxn id="938" idx="3"/>
            <a:endCxn id="95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9" name=""/>
          <p:cNvCxnSpPr>
            <a:stCxn id="941" idx="3"/>
            <a:endCxn id="95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0" name=""/>
          <p:cNvCxnSpPr>
            <a:stCxn id="953" idx="3"/>
            <a:endCxn id="95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1" name=""/>
          <p:cNvCxnSpPr>
            <a:stCxn id="953" idx="3"/>
            <a:endCxn id="94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2" name=""/>
          <p:cNvCxnSpPr>
            <a:stCxn id="953" idx="3"/>
            <a:endCxn id="94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63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214920" y="642960"/>
            <a:ext cx="5875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62120" y="838080"/>
            <a:ext cx="2361960" cy="441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762120" y="838080"/>
            <a:ext cx="3276360" cy="495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762120" y="838080"/>
            <a:ext cx="3276360" cy="5562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62120" y="838080"/>
            <a:ext cx="2361960" cy="2819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62120" y="838080"/>
            <a:ext cx="2286000" cy="1219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6934320" y="762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6934320" y="9144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7010280" y="914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6934320" y="11430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6934320" y="12952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>
            <a:off x="7010280" y="1295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>
            <a:off x="6934320" y="15238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6934320" y="16765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7010280" y="1676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6934320" y="19051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934320" y="20574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010280" y="2057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6934320" y="2362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6934320" y="25146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7010280" y="2514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6934320" y="274320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6934320" y="28954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7010280" y="28954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6934320" y="3124080"/>
            <a:ext cx="15228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"/>
          <p:cNvSpPr/>
          <p:nvPr/>
        </p:nvSpPr>
        <p:spPr>
          <a:xfrm>
            <a:off x="6934320" y="32767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/>
          <p:nvPr/>
        </p:nvSpPr>
        <p:spPr>
          <a:xfrm>
            <a:off x="7010280" y="32767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/>
          <p:nvPr/>
        </p:nvSpPr>
        <p:spPr>
          <a:xfrm>
            <a:off x="6934320" y="3505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6934320" y="36576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7010280" y="36576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"/>
          <p:cNvSpPr/>
          <p:nvPr/>
        </p:nvSpPr>
        <p:spPr>
          <a:xfrm>
            <a:off x="6934320" y="3962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>
            <a:off x="6934320" y="4114800"/>
            <a:ext cx="7596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7010280" y="4114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6934320" y="43434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6934320" y="4495680"/>
            <a:ext cx="7596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7010280" y="44956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6934320" y="47242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6934320" y="4876920"/>
            <a:ext cx="75960" cy="7596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7010280" y="48769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6934320" y="51055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6934320" y="5257800"/>
            <a:ext cx="7596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7010280" y="52578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8001000" y="1752480"/>
            <a:ext cx="15228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8001000" y="1905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8077320" y="19051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8001000" y="137160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8001000" y="1523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8077320" y="15238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800100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8001000" y="1143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8077320" y="11430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8001000" y="3352680"/>
            <a:ext cx="15228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8001000" y="35053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8077320" y="35053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8001000" y="297180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8001000" y="31240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8077320" y="31240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8001000" y="25909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8001000" y="27432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8077320" y="27432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8001000" y="4952880"/>
            <a:ext cx="15228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8001000" y="51055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8077320" y="5105520"/>
            <a:ext cx="7596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001000" y="457200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001000" y="47242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8077320" y="4724280"/>
            <a:ext cx="7596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8001000" y="41911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8001000" y="43434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8077320" y="4343400"/>
            <a:ext cx="7596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8690040" y="3124080"/>
            <a:ext cx="4521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7620120" y="5562720"/>
            <a:ext cx="15228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7620120" y="61722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 flipV="1">
            <a:off x="5105520" y="838080"/>
            <a:ext cx="18288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5105520" y="914400"/>
            <a:ext cx="182880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105520" y="1295280"/>
            <a:ext cx="18288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8153280" y="1905120"/>
            <a:ext cx="5335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 flipV="1">
            <a:off x="8153280" y="320004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5105520" y="1676520"/>
            <a:ext cx="251460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5105520" y="1676520"/>
            <a:ext cx="2514600" cy="457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 flipV="1">
            <a:off x="8153280" y="327672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 flipV="1">
            <a:off x="7772400" y="3352680"/>
            <a:ext cx="1066680" cy="228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 flipV="1">
            <a:off x="7772400" y="3352680"/>
            <a:ext cx="1143000" cy="289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 flipV="1">
            <a:off x="5105520" y="1219320"/>
            <a:ext cx="182880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5105520" y="251460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5105520" y="2895480"/>
            <a:ext cx="1828800" cy="152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5105520" y="3276720"/>
            <a:ext cx="2514600" cy="236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5105520" y="3276720"/>
            <a:ext cx="2590560" cy="3047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 flipV="1">
            <a:off x="5105520" y="1599840"/>
            <a:ext cx="182880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 flipV="1">
            <a:off x="5105520" y="3200400"/>
            <a:ext cx="1828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105520" y="4495680"/>
            <a:ext cx="18288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105520" y="4876920"/>
            <a:ext cx="251460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105520" y="4876920"/>
            <a:ext cx="251460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 flipV="1">
            <a:off x="4191120" y="2057400"/>
            <a:ext cx="2743200" cy="3733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 flipV="1">
            <a:off x="4191120" y="3657240"/>
            <a:ext cx="274320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 flipV="1">
            <a:off x="4191120" y="5181480"/>
            <a:ext cx="27432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 flipV="1">
            <a:off x="4191120" y="5638680"/>
            <a:ext cx="34290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191120" y="5791320"/>
            <a:ext cx="342900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 flipV="1">
            <a:off x="4191120" y="2133360"/>
            <a:ext cx="2743200" cy="426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 flipV="1">
            <a:off x="4191120" y="3657600"/>
            <a:ext cx="2743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 flipV="1">
            <a:off x="4191120" y="5257440"/>
            <a:ext cx="27432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 flipV="1">
            <a:off x="4191120" y="5638320"/>
            <a:ext cx="3429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 flipV="1">
            <a:off x="4191120" y="6248160"/>
            <a:ext cx="33526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152280" y="5610240"/>
            <a:ext cx="3581640" cy="12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plications of the last two columns are just meant to simplify the diagram (yeah, right..)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ely meant to unroll the structure in the previous slide, which is the correct 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Times New Roman"/>
              </a:rPr>
              <a:t>This completes the sentence HMM for GRAMMARLESS DIGITS DECODING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0" y="461880"/>
            <a:ext cx="45720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    F AY 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    F OW 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    N AY 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breath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This is the assumed vocabular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251160" y="114444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188748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912080" y="188748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6280" y="3962520"/>
            <a:ext cx="4995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les for forming sentence HMM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 goes to node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node1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de2 goes to 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038480" y="9907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14479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19051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038480" y="23623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038480" y="2819520"/>
            <a:ext cx="106704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5" idx="3"/>
          </p:cNvCxnSpPr>
          <p:nvPr/>
        </p:nvCxnSpPr>
        <p:spPr>
          <a:xfrm>
            <a:off x="1461600" y="211572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endCxn id="46" idx="1"/>
          </p:cNvCxnSpPr>
          <p:nvPr/>
        </p:nvCxnSpPr>
        <p:spPr>
          <a:xfrm>
            <a:off x="7100640" y="211572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5" name=""/>
          <p:cNvSpPr/>
          <p:nvPr/>
        </p:nvSpPr>
        <p:spPr>
          <a:xfrm>
            <a:off x="2209680" y="2019240"/>
            <a:ext cx="15264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2019240"/>
            <a:ext cx="152280" cy="1526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5" idx="0"/>
            <a:endCxn id="48" idx="1"/>
          </p:cNvCxnSpPr>
          <p:nvPr/>
        </p:nvCxnSpPr>
        <p:spPr>
          <a:xfrm flipH="1" flipV="1" rot="5400000">
            <a:off x="2742840" y="72360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55" idx="7"/>
            <a:endCxn id="49" idx="1"/>
          </p:cNvCxnSpPr>
          <p:nvPr/>
        </p:nvCxnSpPr>
        <p:spPr>
          <a:xfrm flipH="1" flipV="1" rot="5400000">
            <a:off x="2987280" y="9903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55" idx="6"/>
            <a:endCxn id="50" idx="1"/>
          </p:cNvCxnSpPr>
          <p:nvPr/>
        </p:nvCxnSpPr>
        <p:spPr>
          <a:xfrm>
            <a:off x="2362320" y="209520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5"/>
            <a:endCxn id="51" idx="1"/>
          </p:cNvCxnSpPr>
          <p:nvPr/>
        </p:nvCxnSpPr>
        <p:spPr>
          <a:xfrm flipH="1" rot="16200000">
            <a:off x="2987640" y="150156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4"/>
            <a:endCxn id="52" idx="1"/>
          </p:cNvCxnSpPr>
          <p:nvPr/>
        </p:nvCxnSpPr>
        <p:spPr>
          <a:xfrm flipH="1" rot="16200000">
            <a:off x="2743200" y="17143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56" idx="4"/>
          </p:cNvCxnSpPr>
          <p:nvPr/>
        </p:nvCxnSpPr>
        <p:spPr>
          <a:xfrm flipV="1">
            <a:off x="5105160" y="217152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51" idx="3"/>
            <a:endCxn id="56" idx="3"/>
          </p:cNvCxnSpPr>
          <p:nvPr/>
        </p:nvCxnSpPr>
        <p:spPr>
          <a:xfrm flipV="1">
            <a:off x="5105160" y="214920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50" idx="3"/>
            <a:endCxn id="56" idx="2"/>
          </p:cNvCxnSpPr>
          <p:nvPr/>
        </p:nvCxnSpPr>
        <p:spPr>
          <a:xfrm>
            <a:off x="5105520" y="209520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49" idx="3"/>
            <a:endCxn id="56" idx="1"/>
          </p:cNvCxnSpPr>
          <p:nvPr/>
        </p:nvCxnSpPr>
        <p:spPr>
          <a:xfrm>
            <a:off x="5105160" y="163836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48" idx="3"/>
            <a:endCxn id="56" idx="0"/>
          </p:cNvCxnSpPr>
          <p:nvPr/>
        </p:nvCxnSpPr>
        <p:spPr>
          <a:xfrm>
            <a:off x="5105160" y="118116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56" idx="5"/>
            <a:endCxn id="55" idx="3"/>
          </p:cNvCxnSpPr>
          <p:nvPr/>
        </p:nvCxnSpPr>
        <p:spPr>
          <a:xfrm rot="5400000">
            <a:off x="4646520" y="-266040"/>
            <a:ext cx="2160" cy="4833000"/>
          </a:xfrm>
          <a:prstGeom prst="bentConnector3">
            <a:avLst>
              <a:gd name="adj1" fmla="val 9378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819520" y="76320"/>
            <a:ext cx="4114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context-independent word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251160" y="122076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1963800"/>
            <a:ext cx="9284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912080" y="1963800"/>
            <a:ext cx="621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69520" y="4572000"/>
            <a:ext cx="39373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ules for forming triphone-based sentence HMM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egin to node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1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possible word goes to all possible wor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ll possible words go to node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de2 to 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038480" y="10666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038480" y="15238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38480" y="19810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038480" y="24382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sil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038480" y="2895480"/>
            <a:ext cx="1067040" cy="3812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++Breath+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2" idx="3"/>
          </p:cNvCxnSpPr>
          <p:nvPr/>
        </p:nvCxnSpPr>
        <p:spPr>
          <a:xfrm>
            <a:off x="1461600" y="2192040"/>
            <a:ext cx="748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endCxn id="73" idx="1"/>
          </p:cNvCxnSpPr>
          <p:nvPr/>
        </p:nvCxnSpPr>
        <p:spPr>
          <a:xfrm>
            <a:off x="7100640" y="2192040"/>
            <a:ext cx="8103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2209680" y="2095560"/>
            <a:ext cx="15264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34320" y="2095560"/>
            <a:ext cx="152280" cy="1522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2" idx="0"/>
            <a:endCxn id="75" idx="1"/>
          </p:cNvCxnSpPr>
          <p:nvPr/>
        </p:nvCxnSpPr>
        <p:spPr>
          <a:xfrm flipH="1" flipV="1" rot="5400000">
            <a:off x="2742840" y="799920"/>
            <a:ext cx="83880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>
            <a:stCxn id="82" idx="7"/>
            <a:endCxn id="76" idx="1"/>
          </p:cNvCxnSpPr>
          <p:nvPr/>
        </p:nvCxnSpPr>
        <p:spPr>
          <a:xfrm flipH="1" flipV="1" rot="5400000">
            <a:off x="2987280" y="1066680"/>
            <a:ext cx="40392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6" name=""/>
          <p:cNvCxnSpPr>
            <a:stCxn id="82" idx="6"/>
            <a:endCxn id="77" idx="1"/>
          </p:cNvCxnSpPr>
          <p:nvPr/>
        </p:nvCxnSpPr>
        <p:spPr>
          <a:xfrm>
            <a:off x="2362320" y="2171520"/>
            <a:ext cx="16768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2" idx="5"/>
            <a:endCxn id="78" idx="1"/>
          </p:cNvCxnSpPr>
          <p:nvPr/>
        </p:nvCxnSpPr>
        <p:spPr>
          <a:xfrm flipH="1" rot="16200000">
            <a:off x="2987280" y="1577520"/>
            <a:ext cx="404280" cy="1699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"/>
          <p:cNvCxnSpPr>
            <a:stCxn id="82" idx="4"/>
            <a:endCxn id="79" idx="1"/>
          </p:cNvCxnSpPr>
          <p:nvPr/>
        </p:nvCxnSpPr>
        <p:spPr>
          <a:xfrm flipH="1" rot="16200000">
            <a:off x="2742840" y="1790280"/>
            <a:ext cx="839160" cy="1753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"/>
          <p:cNvCxnSpPr>
            <a:stCxn id="79" idx="3"/>
            <a:endCxn id="83" idx="4"/>
          </p:cNvCxnSpPr>
          <p:nvPr/>
        </p:nvCxnSpPr>
        <p:spPr>
          <a:xfrm flipV="1">
            <a:off x="5105160" y="2247120"/>
            <a:ext cx="1905480" cy="8391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"/>
          <p:cNvCxnSpPr>
            <a:stCxn id="78" idx="3"/>
            <a:endCxn id="83" idx="3"/>
          </p:cNvCxnSpPr>
          <p:nvPr/>
        </p:nvCxnSpPr>
        <p:spPr>
          <a:xfrm flipV="1">
            <a:off x="5105160" y="2224800"/>
            <a:ext cx="1851480" cy="4042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"/>
          <p:cNvCxnSpPr>
            <a:stCxn id="77" idx="3"/>
            <a:endCxn id="83" idx="2"/>
          </p:cNvCxnSpPr>
          <p:nvPr/>
        </p:nvCxnSpPr>
        <p:spPr>
          <a:xfrm>
            <a:off x="5105520" y="2171520"/>
            <a:ext cx="182952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76" idx="3"/>
            <a:endCxn id="83" idx="1"/>
          </p:cNvCxnSpPr>
          <p:nvPr/>
        </p:nvCxnSpPr>
        <p:spPr>
          <a:xfrm>
            <a:off x="5105160" y="1714680"/>
            <a:ext cx="1851480" cy="403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75" idx="3"/>
            <a:endCxn id="83" idx="0"/>
          </p:cNvCxnSpPr>
          <p:nvPr/>
        </p:nvCxnSpPr>
        <p:spPr>
          <a:xfrm>
            <a:off x="5105160" y="1257480"/>
            <a:ext cx="1905480" cy="838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75" idx="3"/>
            <a:endCxn id="75" idx="1"/>
          </p:cNvCxnSpPr>
          <p:nvPr/>
        </p:nvCxnSpPr>
        <p:spPr>
          <a:xfrm flipH="1">
            <a:off x="4038120" y="1257480"/>
            <a:ext cx="1067760" cy="2160"/>
          </a:xfrm>
          <a:prstGeom prst="bentConnector5">
            <a:avLst>
              <a:gd name="adj1" fmla="val -21416"/>
              <a:gd name="adj2" fmla="val -2640000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75" idx="3"/>
            <a:endCxn id="76" idx="1"/>
          </p:cNvCxnSpPr>
          <p:nvPr/>
        </p:nvCxnSpPr>
        <p:spPr>
          <a:xfrm flipH="1">
            <a:off x="4038120" y="1257480"/>
            <a:ext cx="1067760" cy="457920"/>
          </a:xfrm>
          <a:prstGeom prst="bentConnector5">
            <a:avLst>
              <a:gd name="adj1" fmla="val -21416"/>
              <a:gd name="adj2" fmla="val 49960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75" idx="3"/>
            <a:endCxn id="77" idx="1"/>
          </p:cNvCxnSpPr>
          <p:nvPr/>
        </p:nvCxnSpPr>
        <p:spPr>
          <a:xfrm flipH="1">
            <a:off x="4038120" y="1257480"/>
            <a:ext cx="1067760" cy="915120"/>
          </a:xfrm>
          <a:prstGeom prst="bentConnector5">
            <a:avLst>
              <a:gd name="adj1" fmla="val -39123"/>
              <a:gd name="adj2" fmla="val 76347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75" idx="3"/>
            <a:endCxn id="78" idx="1"/>
          </p:cNvCxnSpPr>
          <p:nvPr/>
        </p:nvCxnSpPr>
        <p:spPr>
          <a:xfrm flipH="1">
            <a:off x="4038120" y="1257480"/>
            <a:ext cx="1067760" cy="1372320"/>
          </a:xfrm>
          <a:prstGeom prst="bentConnector5">
            <a:avLst>
              <a:gd name="adj1" fmla="val -56964"/>
              <a:gd name="adj2" fmla="val 83652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75" idx="3"/>
            <a:endCxn id="79" idx="1"/>
          </p:cNvCxnSpPr>
          <p:nvPr/>
        </p:nvCxnSpPr>
        <p:spPr>
          <a:xfrm flipH="1">
            <a:off x="4038120" y="1257480"/>
            <a:ext cx="1067760" cy="1829520"/>
          </a:xfrm>
          <a:prstGeom prst="bentConnector5">
            <a:avLst>
              <a:gd name="adj1" fmla="val -77672"/>
              <a:gd name="adj2" fmla="val 86616"/>
              <a:gd name="adj3" fmla="val 121416"/>
            </a:avLst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9" name=""/>
          <p:cNvSpPr/>
          <p:nvPr/>
        </p:nvSpPr>
        <p:spPr>
          <a:xfrm>
            <a:off x="1906920" y="22478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088400" y="217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82280" y="3657600"/>
            <a:ext cx="659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Loops from the end of Five to the beginning of all wo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Similar loops from Four, Nine, &lt;sil&gt;, ++Breath++ present but not sh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33cc"/>
                </a:solidFill>
                <a:latin typeface="Arial"/>
              </a:rPr>
              <a:t>No loop from 2 to 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05120" y="247680"/>
            <a:ext cx="411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rming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" y="4724280"/>
            <a:ext cx="845820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A triphone is a single phone with context INFORMATION. It is not a literal sequence of 3 phones</a:t>
            </a:r>
            <a:r>
              <a:rPr b="1" lang="en-US" sz="12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Arial"/>
              </a:rPr>
              <a:t>Expand the word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last phones (except filler) become left contexts for first phone of Fou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l first phones (except filler) become right contexts for last phone of 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lence can form contexts, but itself does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ller phones (e.g. +breath+) are treated as silence when building contexts. Like  silence, they themselves do not have any context dependenc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79800" y="2971800"/>
            <a:ext cx="4342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ach triple-box represents a triphone. Each triph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 is actually a left-to-right HMM (could have an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states. Each state is a senone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5" name=""/>
          <p:cNvCxnSpPr>
            <a:stCxn id="118" idx="3"/>
            <a:endCxn id="139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21" idx="3"/>
            <a:endCxn id="139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24" idx="3"/>
            <a:endCxn id="139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27" idx="3"/>
            <a:endCxn id="139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9" idx="3"/>
            <a:endCxn id="136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9" idx="3"/>
            <a:endCxn id="133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9" idx="3"/>
            <a:endCxn id="130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6781680" y="24382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25909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28195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010280" y="30481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2767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35053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10280" y="37339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396252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010280" y="419112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153560" y="2498760"/>
            <a:ext cx="92304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F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S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 +breath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1" name=""/>
          <p:cNvCxnSpPr>
            <a:stCxn id="177" idx="3"/>
            <a:endCxn id="19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2" name=""/>
          <p:cNvCxnSpPr>
            <a:stCxn id="180" idx="3"/>
            <a:endCxn id="19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183" idx="3"/>
            <a:endCxn id="19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stCxn id="186" idx="3"/>
            <a:endCxn id="19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"/>
          <p:cNvCxnSpPr>
            <a:stCxn id="198" idx="3"/>
            <a:endCxn id="19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"/>
          <p:cNvCxnSpPr>
            <a:stCxn id="198" idx="3"/>
            <a:endCxn id="19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"/>
          <p:cNvCxnSpPr>
            <a:stCxn id="198" idx="3"/>
            <a:endCxn id="18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11" idx="3"/>
            <a:endCxn id="23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14" idx="3"/>
            <a:endCxn id="23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17" idx="3"/>
            <a:endCxn id="23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8" name=""/>
          <p:cNvCxnSpPr>
            <a:stCxn id="220" idx="3"/>
            <a:endCxn id="23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2" idx="3"/>
            <a:endCxn id="22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2" idx="3"/>
            <a:endCxn id="22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1" name=""/>
          <p:cNvCxnSpPr>
            <a:stCxn id="232" idx="3"/>
            <a:endCxn id="22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1" name=""/>
          <p:cNvCxnSpPr>
            <a:stCxn id="257" idx="3"/>
            <a:endCxn id="278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"/>
          <p:cNvCxnSpPr>
            <a:stCxn id="260" idx="3"/>
            <a:endCxn id="278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"/>
          <p:cNvCxnSpPr>
            <a:stCxn id="263" idx="3"/>
            <a:endCxn id="278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4" name=""/>
          <p:cNvCxnSpPr>
            <a:stCxn id="266" idx="3"/>
            <a:endCxn id="278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5" name=""/>
          <p:cNvCxnSpPr>
            <a:stCxn id="278" idx="3"/>
            <a:endCxn id="275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6" name=""/>
          <p:cNvCxnSpPr>
            <a:stCxn id="278" idx="3"/>
            <a:endCxn id="272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7" name=""/>
          <p:cNvCxnSpPr>
            <a:stCxn id="278" idx="3"/>
            <a:endCxn id="269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8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7160" y="434340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291" idx="3"/>
            <a:endCxn id="312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6" name=""/>
          <p:cNvCxnSpPr>
            <a:stCxn id="294" idx="3"/>
            <a:endCxn id="312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297" idx="3"/>
            <a:endCxn id="312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00" idx="3"/>
            <a:endCxn id="312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9" name=""/>
          <p:cNvCxnSpPr>
            <a:stCxn id="312" idx="3"/>
            <a:endCxn id="309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0" name=""/>
          <p:cNvCxnSpPr>
            <a:stCxn id="312" idx="3"/>
            <a:endCxn id="306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1" name=""/>
          <p:cNvCxnSpPr>
            <a:stCxn id="312" idx="3"/>
            <a:endCxn id="303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6" name=""/>
          <p:cNvCxnSpPr>
            <a:stCxn id="322" idx="3"/>
            <a:endCxn id="343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7" name=""/>
          <p:cNvCxnSpPr>
            <a:stCxn id="325" idx="3"/>
            <a:endCxn id="343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8" name=""/>
          <p:cNvCxnSpPr>
            <a:stCxn id="328" idx="3"/>
            <a:endCxn id="343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31" idx="3"/>
            <a:endCxn id="343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0" name=""/>
          <p:cNvCxnSpPr>
            <a:stCxn id="343" idx="3"/>
            <a:endCxn id="340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1" name=""/>
          <p:cNvCxnSpPr>
            <a:stCxn id="343" idx="3"/>
            <a:endCxn id="337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52" name=""/>
          <p:cNvCxnSpPr>
            <a:stCxn id="343" idx="3"/>
            <a:endCxn id="334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53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93" name=""/>
          <p:cNvCxnSpPr>
            <a:stCxn id="369" idx="3"/>
            <a:endCxn id="390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4" name=""/>
          <p:cNvCxnSpPr>
            <a:stCxn id="372" idx="3"/>
            <a:endCxn id="390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5" name=""/>
          <p:cNvCxnSpPr>
            <a:stCxn id="375" idx="3"/>
            <a:endCxn id="390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6" name=""/>
          <p:cNvCxnSpPr>
            <a:stCxn id="378" idx="3"/>
            <a:endCxn id="390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7" name=""/>
          <p:cNvCxnSpPr>
            <a:stCxn id="390" idx="3"/>
            <a:endCxn id="387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8" name=""/>
          <p:cNvCxnSpPr>
            <a:stCxn id="390" idx="3"/>
            <a:endCxn id="384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99" name=""/>
          <p:cNvCxnSpPr>
            <a:stCxn id="390" idx="3"/>
            <a:endCxn id="381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00" name=""/>
          <p:cNvSpPr/>
          <p:nvPr/>
        </p:nvSpPr>
        <p:spPr>
          <a:xfrm>
            <a:off x="210600" y="123048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our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27160" y="4419720"/>
            <a:ext cx="139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Nin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7" name=""/>
          <p:cNvCxnSpPr>
            <a:stCxn id="403" idx="3"/>
            <a:endCxn id="424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8" name=""/>
          <p:cNvCxnSpPr>
            <a:stCxn id="406" idx="3"/>
            <a:endCxn id="424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9" name=""/>
          <p:cNvCxnSpPr>
            <a:stCxn id="409" idx="3"/>
            <a:endCxn id="424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0" name=""/>
          <p:cNvCxnSpPr>
            <a:stCxn id="412" idx="3"/>
            <a:endCxn id="424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1" name=""/>
          <p:cNvCxnSpPr>
            <a:stCxn id="424" idx="3"/>
            <a:endCxn id="421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2" name=""/>
          <p:cNvCxnSpPr>
            <a:stCxn id="424" idx="3"/>
            <a:endCxn id="418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24" idx="3"/>
            <a:endCxn id="415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4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8" name=""/>
          <p:cNvCxnSpPr>
            <a:stCxn id="434" idx="3"/>
            <a:endCxn id="455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9" name=""/>
          <p:cNvCxnSpPr>
            <a:stCxn id="437" idx="3"/>
            <a:endCxn id="455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0" name=""/>
          <p:cNvCxnSpPr>
            <a:stCxn id="440" idx="3"/>
            <a:endCxn id="455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1" name=""/>
          <p:cNvCxnSpPr>
            <a:stCxn id="443" idx="3"/>
            <a:endCxn id="455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2" name=""/>
          <p:cNvCxnSpPr>
            <a:stCxn id="455" idx="3"/>
            <a:endCxn id="452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5" idx="3"/>
            <a:endCxn id="449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4" name=""/>
          <p:cNvCxnSpPr>
            <a:stCxn id="455" idx="3"/>
            <a:endCxn id="446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5" name=""/>
          <p:cNvSpPr/>
          <p:nvPr/>
        </p:nvSpPr>
        <p:spPr>
          <a:xfrm>
            <a:off x="226440" y="2743200"/>
            <a:ext cx="136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Five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26800" y="5638680"/>
            <a:ext cx="1409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&lt;sil&gt;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24640" y="6172200"/>
            <a:ext cx="195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MM for “++breath++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2286000" y="461880"/>
            <a:ext cx="457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8077320" y="9907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305920" y="9907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534520" y="990720"/>
            <a:ext cx="15228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077320" y="1219320"/>
            <a:ext cx="15228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8305920" y="1219320"/>
            <a:ext cx="15228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534520" y="1219320"/>
            <a:ext cx="15228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0773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8305920" y="1447920"/>
            <a:ext cx="15228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534520" y="1447920"/>
            <a:ext cx="15228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305920" y="1752480"/>
            <a:ext cx="152280" cy="1526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19810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2209680" y="152280"/>
            <a:ext cx="46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uilding the  triphone-based sentence H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5200" y="457200"/>
            <a:ext cx="91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xic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781680" y="380880"/>
            <a:ext cx="2210040" cy="1981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3124080" y="838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3124080" y="9907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20040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124080" y="12193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3124080" y="13716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320040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124080" y="16002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3124080" y="17524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320040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124080" y="19810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124080" y="21337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200400" y="2133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952880" y="160020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952880" y="17524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5029200" y="17524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952880" y="1219320"/>
            <a:ext cx="152640" cy="1522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952880" y="13716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5029200" y="13716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4952880" y="838080"/>
            <a:ext cx="152640" cy="15264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952880" y="9907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029200" y="9907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038480" y="12193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038480" y="13716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4114800" y="1371600"/>
            <a:ext cx="76320" cy="763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9" name=""/>
          <p:cNvCxnSpPr>
            <a:stCxn id="485" idx="3"/>
            <a:endCxn id="506" idx="1"/>
          </p:cNvCxnSpPr>
          <p:nvPr/>
        </p:nvCxnSpPr>
        <p:spPr>
          <a:xfrm>
            <a:off x="3276720" y="9144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0" name=""/>
          <p:cNvCxnSpPr>
            <a:stCxn id="488" idx="3"/>
            <a:endCxn id="506" idx="1"/>
          </p:cNvCxnSpPr>
          <p:nvPr/>
        </p:nvCxnSpPr>
        <p:spPr>
          <a:xfrm>
            <a:off x="32767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1" name=""/>
          <p:cNvCxnSpPr>
            <a:stCxn id="491" idx="3"/>
            <a:endCxn id="506" idx="1"/>
          </p:cNvCxnSpPr>
          <p:nvPr/>
        </p:nvCxnSpPr>
        <p:spPr>
          <a:xfrm flipV="1">
            <a:off x="3276720" y="12945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2" name=""/>
          <p:cNvCxnSpPr>
            <a:stCxn id="494" idx="3"/>
            <a:endCxn id="506" idx="1"/>
          </p:cNvCxnSpPr>
          <p:nvPr/>
        </p:nvCxnSpPr>
        <p:spPr>
          <a:xfrm flipV="1">
            <a:off x="3276720" y="12945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3" name=""/>
          <p:cNvCxnSpPr>
            <a:stCxn id="506" idx="3"/>
            <a:endCxn id="503" idx="1"/>
          </p:cNvCxnSpPr>
          <p:nvPr/>
        </p:nvCxnSpPr>
        <p:spPr>
          <a:xfrm flipV="1">
            <a:off x="4191120" y="9140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4" name=""/>
          <p:cNvCxnSpPr>
            <a:stCxn id="506" idx="3"/>
            <a:endCxn id="500" idx="1"/>
          </p:cNvCxnSpPr>
          <p:nvPr/>
        </p:nvCxnSpPr>
        <p:spPr>
          <a:xfrm>
            <a:off x="4191120" y="12949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5" name=""/>
          <p:cNvCxnSpPr>
            <a:stCxn id="506" idx="3"/>
            <a:endCxn id="497" idx="1"/>
          </p:cNvCxnSpPr>
          <p:nvPr/>
        </p:nvCxnSpPr>
        <p:spPr>
          <a:xfrm>
            <a:off x="4191120" y="12949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6" name=""/>
          <p:cNvSpPr/>
          <p:nvPr/>
        </p:nvSpPr>
        <p:spPr>
          <a:xfrm>
            <a:off x="6858000" y="898560"/>
            <a:ext cx="2286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si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++Breath+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3124080" y="2438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25909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20040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124080" y="281952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12408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20040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124080" y="3200400"/>
            <a:ext cx="152640" cy="1522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124080" y="33526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20040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124080" y="3581280"/>
            <a:ext cx="152640" cy="1526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124080" y="37339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200400" y="3733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4952880" y="320040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52880" y="335268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5029200" y="33526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4952880" y="2819520"/>
            <a:ext cx="152640" cy="152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952880" y="2971800"/>
            <a:ext cx="76320" cy="7632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5029200" y="29718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4952880" y="2438280"/>
            <a:ext cx="152640" cy="1526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952880" y="2590920"/>
            <a:ext cx="76320" cy="759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029200" y="25909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4038480" y="2819520"/>
            <a:ext cx="152640" cy="1522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4038480" y="2971800"/>
            <a:ext cx="76320" cy="76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4114800" y="29718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1" name=""/>
          <p:cNvCxnSpPr>
            <a:stCxn id="517" idx="3"/>
            <a:endCxn id="538" idx="1"/>
          </p:cNvCxnSpPr>
          <p:nvPr/>
        </p:nvCxnSpPr>
        <p:spPr>
          <a:xfrm>
            <a:off x="3276720" y="25146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2" name=""/>
          <p:cNvCxnSpPr>
            <a:stCxn id="520" idx="3"/>
            <a:endCxn id="538" idx="1"/>
          </p:cNvCxnSpPr>
          <p:nvPr/>
        </p:nvCxnSpPr>
        <p:spPr>
          <a:xfrm>
            <a:off x="32767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3" name=""/>
          <p:cNvCxnSpPr>
            <a:stCxn id="523" idx="3"/>
            <a:endCxn id="538" idx="1"/>
          </p:cNvCxnSpPr>
          <p:nvPr/>
        </p:nvCxnSpPr>
        <p:spPr>
          <a:xfrm flipV="1">
            <a:off x="3276720" y="28947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26" idx="3"/>
            <a:endCxn id="538" idx="1"/>
          </p:cNvCxnSpPr>
          <p:nvPr/>
        </p:nvCxnSpPr>
        <p:spPr>
          <a:xfrm flipV="1">
            <a:off x="3276720" y="28947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5" name=""/>
          <p:cNvCxnSpPr>
            <a:stCxn id="538" idx="3"/>
            <a:endCxn id="535" idx="1"/>
          </p:cNvCxnSpPr>
          <p:nvPr/>
        </p:nvCxnSpPr>
        <p:spPr>
          <a:xfrm flipV="1">
            <a:off x="4191120" y="25142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6" name=""/>
          <p:cNvCxnSpPr>
            <a:stCxn id="538" idx="3"/>
            <a:endCxn id="532" idx="1"/>
          </p:cNvCxnSpPr>
          <p:nvPr/>
        </p:nvCxnSpPr>
        <p:spPr>
          <a:xfrm>
            <a:off x="4191120" y="28951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7" name=""/>
          <p:cNvCxnSpPr>
            <a:stCxn id="538" idx="3"/>
            <a:endCxn id="529" idx="1"/>
          </p:cNvCxnSpPr>
          <p:nvPr/>
        </p:nvCxnSpPr>
        <p:spPr>
          <a:xfrm>
            <a:off x="4191120" y="28951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8" name=""/>
          <p:cNvSpPr/>
          <p:nvPr/>
        </p:nvSpPr>
        <p:spPr>
          <a:xfrm>
            <a:off x="31240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3124080" y="4191120"/>
            <a:ext cx="76320" cy="759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20040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1240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124080" y="4572000"/>
            <a:ext cx="76320" cy="763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320040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31240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3124080" y="495288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20040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3124080" y="5181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124080" y="5334120"/>
            <a:ext cx="76320" cy="759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3200400" y="5334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52880" y="480060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4952880" y="495288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029200" y="4952880"/>
            <a:ext cx="76320" cy="763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952880" y="4419720"/>
            <a:ext cx="152640" cy="15228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4952880" y="4572000"/>
            <a:ext cx="76320" cy="763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0292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952880" y="4038480"/>
            <a:ext cx="152640" cy="15264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4952880" y="4191120"/>
            <a:ext cx="76320" cy="759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029200" y="4191120"/>
            <a:ext cx="76320" cy="759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4038480" y="4419720"/>
            <a:ext cx="152640" cy="152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403848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114800" y="4572000"/>
            <a:ext cx="76320" cy="76320"/>
          </a:xfrm>
          <a:prstGeom prst="rect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2" name=""/>
          <p:cNvCxnSpPr>
            <a:stCxn id="548" idx="3"/>
            <a:endCxn id="569" idx="1"/>
          </p:cNvCxnSpPr>
          <p:nvPr/>
        </p:nvCxnSpPr>
        <p:spPr>
          <a:xfrm>
            <a:off x="3276720" y="411480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3" name=""/>
          <p:cNvCxnSpPr>
            <a:stCxn id="551" idx="3"/>
            <a:endCxn id="569" idx="1"/>
          </p:cNvCxnSpPr>
          <p:nvPr/>
        </p:nvCxnSpPr>
        <p:spPr>
          <a:xfrm>
            <a:off x="32767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4" name=""/>
          <p:cNvCxnSpPr>
            <a:stCxn id="554" idx="3"/>
            <a:endCxn id="569" idx="1"/>
          </p:cNvCxnSpPr>
          <p:nvPr/>
        </p:nvCxnSpPr>
        <p:spPr>
          <a:xfrm flipV="1">
            <a:off x="3276720" y="449496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5" name=""/>
          <p:cNvCxnSpPr>
            <a:stCxn id="557" idx="3"/>
            <a:endCxn id="569" idx="1"/>
          </p:cNvCxnSpPr>
          <p:nvPr/>
        </p:nvCxnSpPr>
        <p:spPr>
          <a:xfrm flipV="1">
            <a:off x="3276720" y="4494960"/>
            <a:ext cx="762480" cy="76284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69" idx="3"/>
            <a:endCxn id="566" idx="1"/>
          </p:cNvCxnSpPr>
          <p:nvPr/>
        </p:nvCxnSpPr>
        <p:spPr>
          <a:xfrm flipV="1">
            <a:off x="4191120" y="4114440"/>
            <a:ext cx="762480" cy="38160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stCxn id="569" idx="3"/>
            <a:endCxn id="563" idx="1"/>
          </p:cNvCxnSpPr>
          <p:nvPr/>
        </p:nvCxnSpPr>
        <p:spPr>
          <a:xfrm>
            <a:off x="4191120" y="4495320"/>
            <a:ext cx="7624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8" name=""/>
          <p:cNvCxnSpPr>
            <a:stCxn id="569" idx="3"/>
            <a:endCxn id="560" idx="1"/>
          </p:cNvCxnSpPr>
          <p:nvPr/>
        </p:nvCxnSpPr>
        <p:spPr>
          <a:xfrm>
            <a:off x="4191120" y="4495320"/>
            <a:ext cx="762480" cy="381960"/>
          </a:xfrm>
          <a:prstGeom prst="bentConnector3">
            <a:avLst>
              <a:gd name="adj1" fmla="val 4997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9" name=""/>
          <p:cNvSpPr/>
          <p:nvPr/>
        </p:nvSpPr>
        <p:spPr>
          <a:xfrm>
            <a:off x="4038480" y="5715000"/>
            <a:ext cx="152640" cy="1522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038480" y="63244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81" name=""/>
          <p:cNvCxnSpPr>
            <a:stCxn id="503" idx="3"/>
            <a:endCxn id="517" idx="1"/>
          </p:cNvCxnSpPr>
          <p:nvPr/>
        </p:nvCxnSpPr>
        <p:spPr>
          <a:xfrm flipH="1">
            <a:off x="3123720" y="914040"/>
            <a:ext cx="1982160" cy="1600920"/>
          </a:xfrm>
          <a:prstGeom prst="bentConnector5">
            <a:avLst>
              <a:gd name="adj1" fmla="val -11534"/>
              <a:gd name="adj2" fmla="val 84705"/>
              <a:gd name="adj3" fmla="val 111534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6324480" y="4952880"/>
            <a:ext cx="25909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Linking rul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k from rightmost color x with right context color y to leftmost color y with right context color 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9T23:47:50Z</dcterms:created>
  <dc:creator>bhiksha</dc:creator>
  <dc:description/>
  <dc:language>en-US</dc:language>
  <cp:lastModifiedBy>bhiksha</cp:lastModifiedBy>
  <dcterms:modified xsi:type="dcterms:W3CDTF">2002-05-10T04:56:31Z</dcterms:modified>
  <cp:revision>16</cp:revision>
  <dc:subject/>
  <dc:title>PowerPoint Presentation</dc:title>
</cp:coreProperties>
</file>