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9C2B-AB96-42A4-897E-D029E9BBA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DEDB-3DBE-490D-ACDE-F5FD0088E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EEF2-80C8-4106-80EC-50B673BB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A84D-2411-4D9A-9390-B892C92E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AE87-2D49-49C5-98EB-E714B201E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B385-BCBC-4E9A-B74B-2FE3754E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1FE2-AE18-46B8-AE96-F6A4D641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974A-363E-40DC-884D-6A84D070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645E-DAFF-40FE-BC8A-F0E57029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0969-C12B-45D6-BFE5-73294C62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F00F-EB33-4F2C-8C37-F7C74072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AA46-BA1A-463C-A7DB-11E4CC64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8B47-9295-4275-9D44-EC76ACA3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2976-8827-497D-8600-C19189F231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1280" y="2060640"/>
            <a:ext cx="7777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is m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come up wit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inim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quirements and write just enough code to satisfy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avoid “speculative generality”.  page 83 “Refactoring”, by Martin Fow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in JC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in SLF4J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8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953" t="1564" r="953" b="1392"/>
          <a:stretch/>
        </p:blipFill>
        <p:spPr>
          <a:xfrm>
            <a:off x="1042920" y="1773360"/>
            <a:ext cx="73454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Ceki </cp:lastModifiedBy>
  <dcterms:modified xsi:type="dcterms:W3CDTF">2008-09-25T09:35:06Z</dcterms:modified>
  <cp:revision>23</cp:revision>
  <dc:subject/>
  <dc:title>Slf4j &amp; logback projects</dc:title>
</cp:coreProperties>
</file>