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AC4E-4136-4668-8602-AEE4C79AC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5860-EA08-4496-A513-A96B02EBA8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33B37-3455-4C8B-8A66-AE4EA46C2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78DC3-4BDB-4EE5-A047-DDF4BFE9CC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A361-0C07-4349-B249-E0F1DBF68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EE513-5050-4C90-9F78-0DF0E2F6D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97F11-504A-4022-85DF-3C8289E17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8113-CA05-49A1-8479-8B3621D39E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C3D0-0A86-44AC-BB9E-7B2119AD0D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04DA-F209-4838-A5E9-7B978CC80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8DBD5-CE09-4142-9308-49FB7E1C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ADFF-756A-4D88-A736-1922485B0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D87BD-FEB7-499B-AD64-C957FDEA4FF0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ja-JP" sz="4400" spc="-1" strike="noStrike">
                <a:solidFill>
                  <a:srgbClr val="000000"/>
                </a:solidFill>
                <a:latin typeface="Times New Roman"/>
              </a:rPr>
              <a:t>ＳｌｏｔｈＬｉｂＴｅｓｔ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imes New Roman"/>
              </a:rPr>
              <a:t>これはテストのためのドキュメントです．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３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４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imes New Roman"/>
              </a:rPr>
              <a:t>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なかだ</cp:lastModifiedBy>
  <dcterms:modified xsi:type="dcterms:W3CDTF">2008-04-10T04:52:20Z</dcterms:modified>
  <cp:revision>1</cp:revision>
  <dc:subject/>
  <dc:title>PowerPoint Presentation</dc:title>
</cp:coreProperties>
</file>