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30970"/>
        <c:axId val="95542217"/>
      </c:barChart>
      <c:catAx>
        <c:axId val="25030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42217"/>
        <c:crosses val="autoZero"/>
        <c:auto val="1"/>
        <c:lblAlgn val="ctr"/>
        <c:lblOffset val="100"/>
        <c:noMultiLvlLbl val="0"/>
      </c:catAx>
      <c:valAx>
        <c:axId val="95542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30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DF0-F114-4A9E-9655-52184297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E7D-9682-40F4-989E-FE9EC981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165-0F83-4850-86FB-90822737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200-FA64-4FD5-B742-0F215A6C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8E1-F8A0-4085-85D1-5FD35182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A9C-EC07-4572-8260-D9561EC4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494-20D4-45C4-AFB7-C5AEC63F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D32-8EC3-4797-B8F5-FCB86B54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AAC-C6FD-474E-9A2D-8538FD1F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63C-FEEE-4FAA-8889-40EAF5BA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E44-9855-4C4F-81EA-177F0605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F34-7791-472D-9E37-E375BC33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4AAF7-E341-48A7-9854-8A4E632077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