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4014"/>
        <c:axId val="64976266"/>
      </c:barChart>
      <c:catAx>
        <c:axId val="8614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76266"/>
        <c:crosses val="autoZero"/>
        <c:auto val="1"/>
        <c:lblAlgn val="ctr"/>
        <c:lblOffset val="100"/>
        <c:noMultiLvlLbl val="0"/>
      </c:catAx>
      <c:valAx>
        <c:axId val="649762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4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DAC2-E3C0-43CE-9721-2070EBE3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0998-F259-4AC4-8A43-BE75FAE50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A02B-BF30-4B4A-8B1B-A148312A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A24-C77E-4B0D-83B8-B85838EA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8D92-9C7F-453E-BE2B-AFDF4DA7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3B7-6BD9-403F-8554-99A2C0BD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7E6F-FA9B-4E4A-A136-465122D5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C0E-FC19-443E-A786-70404438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265-C10A-4BE1-8AD5-E9B90F21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2A6-5E88-42EE-8A86-A5D8E30E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F181-4A18-4C99-AD15-CE98DC2F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6997-916F-42BE-8A84-FCFE3605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E54FB-1987-4FDD-B061-9EC290E29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