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63205"/>
        <c:axId val="5263514"/>
      </c:barChart>
      <c:catAx>
        <c:axId val="75163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514"/>
        <c:crosses val="autoZero"/>
        <c:auto val="1"/>
        <c:lblAlgn val="ctr"/>
        <c:lblOffset val="100"/>
        <c:noMultiLvlLbl val="0"/>
      </c:catAx>
      <c:valAx>
        <c:axId val="5263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3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B47-B741-43D9-B3C0-D5534F46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0E7-39EA-4F55-BC30-10E2A8AA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B49-8B9D-4B42-A143-E3B8832B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877-0B03-4858-BCEA-CA408B77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AD8-5915-4DA7-87F4-800F6EC3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DEC-41B9-4E80-99E8-5E49FEF3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7A6-EA60-4ACD-967D-3FB6E83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802-AF50-48FC-8D89-9B60F73C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CA3-7D73-43C1-BBCC-A430385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65A-E387-4CDA-AA48-935A3CE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95D-58F2-4B55-9211-30995266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483-8A79-4D4D-93ED-76EA3DB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3A293-F3D6-4A4A-A83E-03E52D912D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