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09220"/>
        <c:axId val="48140707"/>
      </c:barChart>
      <c:catAx>
        <c:axId val="79009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40707"/>
        <c:crosses val="autoZero"/>
        <c:auto val="1"/>
        <c:lblAlgn val="ctr"/>
        <c:lblOffset val="100"/>
        <c:noMultiLvlLbl val="0"/>
      </c:catAx>
      <c:valAx>
        <c:axId val="48140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09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3E3-9268-4D73-899D-6577EE5E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861-E631-469E-8608-5E4CFF43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547-9293-44BE-8EEB-154E2D99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96F-980A-4655-B62F-55063CF8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A65-736E-4876-9B25-BB093A0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066-A577-4FB8-8195-C7992E7A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4BA-6414-4788-B202-8848AAD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7BE-51AC-4329-9A10-3A30CD06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1DA-8D8D-472F-9E14-19659835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F6E-05F3-4A66-92AF-18CFD58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71D-3F58-4CD3-80F8-D17F4E6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96D-1754-4983-BFD7-34E38F2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A49A7-53D0-470A-8C26-3B231ABAF3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