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37059"/>
        <c:axId val="63982523"/>
      </c:barChart>
      <c:catAx>
        <c:axId val="71737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82523"/>
        <c:crosses val="autoZero"/>
        <c:auto val="1"/>
        <c:lblAlgn val="ctr"/>
        <c:lblOffset val="100"/>
        <c:noMultiLvlLbl val="0"/>
      </c:catAx>
      <c:valAx>
        <c:axId val="63982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37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AA7-8C71-4F91-93EF-B2062D27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C37-2A5C-4227-87EA-9F65CFEF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D18-5E86-4A38-9F1A-51296823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A61-AD57-4BE2-B8D5-877B7F67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58E-692A-4553-A3CB-5DF65C15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F53-CF4A-4F62-93FB-3CFE19CB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9F9-3EB9-4024-8F78-0D77E404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280-1BCC-4F27-873E-117A54AA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9D5-4B72-4438-A00F-D90BA562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136-5747-422E-BE2D-980F45F8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A39-F800-4FA1-B107-232DE4F3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AA9-3549-41BD-A097-DAAB071A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7206E-F783-4E38-9B99-DD3CBB6F2F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