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12812"/>
        <c:axId val="65356783"/>
      </c:barChart>
      <c:catAx>
        <c:axId val="45012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56783"/>
        <c:crosses val="autoZero"/>
        <c:auto val="1"/>
        <c:lblAlgn val="ctr"/>
        <c:lblOffset val="100"/>
        <c:noMultiLvlLbl val="0"/>
      </c:catAx>
      <c:valAx>
        <c:axId val="65356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12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04F-2E29-4480-AF9D-13506383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245-2E58-4899-B5D1-A5E841EC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898-D750-425F-B13E-BEABFC82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8A7-9135-454B-9707-3A5345D0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CE1-23AA-42F4-9980-DF7B1DCF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F3B-1B33-4350-B4BC-F3124548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AF1-1566-4FC7-93AF-E772FEFB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2EA-1548-407A-AFA7-CFE6D6D9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694-C348-4A3D-9AD2-68CA68B1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30B-120B-4E95-B426-A6130C9C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932-3D8D-4B1C-B05A-8146D623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708-3154-4FAD-9D4C-FF67B3DD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662E0-F1AB-497D-8494-FC7DE66232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