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81785"/>
        <c:axId val="81358123"/>
      </c:barChart>
      <c:catAx>
        <c:axId val="92381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58123"/>
        <c:crosses val="autoZero"/>
        <c:auto val="1"/>
        <c:lblAlgn val="ctr"/>
        <c:lblOffset val="100"/>
        <c:noMultiLvlLbl val="0"/>
      </c:catAx>
      <c:valAx>
        <c:axId val="81358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81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581-8BC7-4422-8A09-D2666D6F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264-A90C-4358-A255-2EC6B74E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375-7AA7-47C0-A6B7-B06DB2D9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938-FA4D-4AE2-8E0B-BB1C61F5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36C-3628-4E25-A9A3-5998E716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C4E-918E-4C9E-B938-6EA6B062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5F4-3557-402B-9517-B07F4797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5B6-1526-4766-9D60-1478966A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C3C-C84C-4428-84A9-351A44AF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8E7-144C-4123-8DAA-BCD8BFF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421-E4E7-4143-9D41-92164E57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46F-F8B7-4156-8036-A1C6531B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6CB4A-EC27-46BC-87A8-AA1936C7AE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