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43063"/>
        <c:axId val="57484210"/>
      </c:barChart>
      <c:catAx>
        <c:axId val="63443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84210"/>
        <c:crosses val="autoZero"/>
        <c:auto val="1"/>
        <c:lblAlgn val="ctr"/>
        <c:lblOffset val="100"/>
        <c:noMultiLvlLbl val="0"/>
      </c:catAx>
      <c:valAx>
        <c:axId val="57484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43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0D5-D10A-41C7-94F1-F06FA037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F7E-B406-4BB9-98A1-B209253C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CE3-BB24-473B-8748-7674CB1B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0F0-07D1-4732-A637-33540CDB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C06-3663-48F1-8970-F84D43DE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879-FB74-4964-8249-202B5434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DA7-1C0C-4655-819C-BFFD219A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05C-10AB-4121-BB7F-A263F7A2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811-9B52-4FAF-84FD-ED8FC01B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7C7-9CA0-4B2C-985A-C82DF99E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E248-D5E5-4023-B3A7-1CFB470E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389-D89A-4B06-A268-99621B7E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C758A-5796-416E-9FBF-74B5028342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