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791889"/>
        <c:axId val="79843748"/>
      </c:barChart>
      <c:catAx>
        <c:axId val="537918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843748"/>
        <c:crosses val="autoZero"/>
        <c:auto val="1"/>
        <c:lblAlgn val="ctr"/>
        <c:lblOffset val="100"/>
        <c:noMultiLvlLbl val="0"/>
      </c:catAx>
      <c:valAx>
        <c:axId val="798437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918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D463-72DE-4676-AA92-72A51A7B3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743D-A9E3-4048-8FC4-EEFDF540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BAC3-AFED-4790-BDEE-4425F01D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24DE-185F-4FF3-B90B-8DED59006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10DC-9794-4BB8-A1AC-0B4DBF17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022B-AF5C-42E5-A15F-701D1E87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5AB8-AD77-409E-AE0F-E46443E6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8F80-77A4-404E-96BE-4E6ABFF1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5C95-7F03-45B8-844F-80EE6CD6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5324-FD86-40C3-BB88-2408C977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6B95-9085-49F8-928A-58124215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B85E-E431-42D2-8651-02FBED15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AF26C0-5131-459F-BBC4-C36B1CF5EC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