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65136"/>
        <c:axId val="44316385"/>
      </c:barChart>
      <c:catAx>
        <c:axId val="74965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16385"/>
        <c:crosses val="autoZero"/>
        <c:auto val="1"/>
        <c:lblAlgn val="ctr"/>
        <c:lblOffset val="100"/>
        <c:noMultiLvlLbl val="0"/>
      </c:catAx>
      <c:valAx>
        <c:axId val="443163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65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6699-5724-4961-8AB1-ED4A1A4D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53C7-C7CA-4A24-8ED2-6A84E7B3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BE7B-EF9E-431C-BEA7-CB847D26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DC52-E056-4B4D-9B8F-B4BDC4DE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BF22-7647-47F9-8433-9DA9F440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D721-2BB3-4714-9806-A7CDFD72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6704-E1B9-44D9-ABA1-930E4305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5BC2-78CB-49D6-90AE-2529622E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CA0D-2F42-43CD-8640-BD6BAC5A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330-58B3-47AD-9795-37EFEB6E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50F-C229-4537-992A-BAD0B4FA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C2F1-E2E1-48D0-8A2B-1B83EF5D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9FD9B-914E-49D1-90FA-233C32D54C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