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9452"/>
        <c:axId val="95106428"/>
      </c:barChart>
      <c:catAx>
        <c:axId val="1999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6428"/>
        <c:crosses val="autoZero"/>
        <c:auto val="1"/>
        <c:lblAlgn val="ctr"/>
        <c:lblOffset val="100"/>
        <c:noMultiLvlLbl val="0"/>
      </c:catAx>
      <c:valAx>
        <c:axId val="95106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9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07A-AF5D-4792-812E-66A4321E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771-6CFC-4EA6-8D6B-0966DFC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A02-1A94-4181-B1EA-A2E5403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602-D4BC-46E4-98B5-D3B261D3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37D-F391-413D-AB45-7AD0E1A5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3BB-7BA4-4B89-BD3B-16EB0A1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CA2-DDDC-48A9-88D9-35AE010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794-0421-4F67-BCF4-63F4A56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01C-0C1D-47AA-9742-499A3E8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DD8-1CA1-4FB5-A75E-B8BE29A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A9C-9FD6-4DF6-B6D7-872ABCFA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6F2-F04B-4E2C-9C37-6D049F2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7B4F5-746A-4A61-A624-41BF1070D1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