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5464"/>
        <c:axId val="77086621"/>
      </c:barChart>
      <c:catAx>
        <c:axId val="8185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86621"/>
        <c:crosses val="autoZero"/>
        <c:auto val="1"/>
        <c:lblAlgn val="ctr"/>
        <c:lblOffset val="100"/>
        <c:noMultiLvlLbl val="0"/>
      </c:catAx>
      <c:valAx>
        <c:axId val="77086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5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341-B51E-43BD-834D-B97C8B75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807-FD38-4448-97EC-C51FEE5B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90C-D036-4A4E-A76A-C235A695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96C-51EE-40B4-95A4-CA2ADB25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8B3-BD6B-461E-9816-17A9C22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0D6-2189-42DD-BE6A-3957341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9D8-7451-49D1-B53F-9192759C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ED5-1A36-45DC-96C0-72AE609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523-289B-4CAA-8699-8CB17921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E83-4784-4E7B-A924-4D91E6EA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15F-5780-466A-B2CF-1EEC584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D04-D253-4ACC-8D26-C63C1A4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96FEC-E0A8-4327-9601-C27B1AD710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