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9663"/>
        <c:axId val="18858337"/>
      </c:barChart>
      <c:catAx>
        <c:axId val="54029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8337"/>
        <c:crosses val="autoZero"/>
        <c:auto val="1"/>
        <c:lblAlgn val="ctr"/>
        <c:lblOffset val="100"/>
        <c:noMultiLvlLbl val="0"/>
      </c:catAx>
      <c:valAx>
        <c:axId val="18858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9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A21-003B-44E0-B878-ABB4FA0B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A7A-A2AE-42FC-880D-B949E35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0A-BA85-4C03-A13B-20F11250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58E-6519-4751-83E6-D5008116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C28-6105-4E8D-951B-6AE3E0F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7F2-FE9A-4BB8-8A5F-1ED25D17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BF7-3D52-4199-8B42-4C7F575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096-11B0-4667-AF57-3E665CC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184-2A9B-4CD8-BB01-6DE13E04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AA5-2035-4645-A2D9-8C85D4F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B4-87D9-4286-A312-D4CD9BF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E4B-761E-40F2-B957-4B14413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474D1-51A5-4194-98A4-D2C4E6FEB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