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11166"/>
        <c:axId val="27683910"/>
      </c:barChart>
      <c:catAx>
        <c:axId val="85111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83910"/>
        <c:crosses val="autoZero"/>
        <c:auto val="1"/>
        <c:lblAlgn val="ctr"/>
        <c:lblOffset val="100"/>
        <c:noMultiLvlLbl val="0"/>
      </c:catAx>
      <c:valAx>
        <c:axId val="276839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11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77E3-43E6-4A4D-A6D3-B197649B0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0ED8-A622-409E-A5CE-96E18512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86C5-E87E-4F32-A205-CFB94E94A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7F77-2B43-4288-942C-9034467DD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4E61-650B-4C0F-ABA8-114E761B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2A76-D930-41C3-B96B-E1BD67F8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6CC2-84B8-4A17-AAEC-11CA84D1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D28F-8540-4B56-A5A9-D32A97A4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F3B6-59B4-4AF0-9C0E-6B961DA7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EB03-11BF-4952-A7E4-607346B0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EBCC-C9E5-400D-AE79-E71B9870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E297-2DD4-4A97-BE01-56AADA85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6CAF4-D1A1-4F26-BA47-8FCC371176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