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617987"/>
        <c:axId val="91973692"/>
      </c:barChart>
      <c:catAx>
        <c:axId val="476179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73692"/>
        <c:crosses val="autoZero"/>
        <c:auto val="1"/>
        <c:lblAlgn val="ctr"/>
        <c:lblOffset val="100"/>
        <c:noMultiLvlLbl val="0"/>
      </c:catAx>
      <c:valAx>
        <c:axId val="919736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179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C5BE-5DAC-471E-938B-AAF86B18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8126-024F-4DE2-9CBB-9A8E40C9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6D1D-B8F6-4D10-885C-E277D57F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255F-315C-4678-B2E7-FEBDF57C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B500-9503-47CD-A173-CD730E8A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9CA5-7452-4270-8F6C-88EF748D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E925-6C71-4A00-B29F-3B792161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26B9-FA99-4B82-A744-7909351A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8AA4-B5FE-4D61-842D-9EB0921F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20A4-A281-4B2C-87A8-0757C9C7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A136-49B3-407D-A53C-98B7A86F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8FF9-2FC0-4603-87D5-14E6DB4F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4206B-CC39-4235-81E9-5E72EFAEEC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