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60954"/>
        <c:axId val="42216756"/>
      </c:barChart>
      <c:catAx>
        <c:axId val="40560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16756"/>
        <c:crosses val="autoZero"/>
        <c:auto val="1"/>
        <c:lblAlgn val="ctr"/>
        <c:lblOffset val="100"/>
        <c:noMultiLvlLbl val="0"/>
      </c:catAx>
      <c:valAx>
        <c:axId val="42216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60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44D-E472-4901-AFC7-8A076F99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8F3-6CDC-4F16-A9CB-34269EC6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4B8-FF03-49FF-A454-EBFB5ECB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36E-504D-43BE-B194-2BD9A3FD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807-A132-4252-A4A8-F02B0733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685-96A1-462E-981E-D5AAF6E1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CE1-B2E1-43B5-BB32-B68F6BB6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130-7654-4F7D-8AE1-5A2475AF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1CC-9A4D-46E3-BF53-8C770C59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FBC-0910-461E-A6E0-2F8F5B88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3CF-0098-4A73-A52E-000CF8C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61B-40C8-4F5F-A362-90B7CAD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ECC0-38F2-498D-BCA5-12CC98957B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