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87534"/>
        <c:axId val="61772347"/>
      </c:barChart>
      <c:catAx>
        <c:axId val="42887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72347"/>
        <c:crosses val="autoZero"/>
        <c:auto val="1"/>
        <c:lblAlgn val="ctr"/>
        <c:lblOffset val="100"/>
        <c:noMultiLvlLbl val="0"/>
      </c:catAx>
      <c:valAx>
        <c:axId val="61772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87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022-D72C-4625-AB51-C841E4A2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D74-6CFA-47D8-B7A2-30FDD5E4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A1F-AF72-4BB7-83AA-FF06B29C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5C5-E4A3-469C-B4B1-EDA4795F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2B1-5EDA-4D7A-BFE4-1071251D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C55-4850-447B-B611-8412496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52C-72E1-4863-9602-D9236105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2C2-A90F-4A38-AE09-0E1253CD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097-3476-4031-B40F-576BBF8A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C4F-8CFA-4485-9297-A009147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BC2-F324-45C3-9D8B-D7DDE37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69D-D5EB-496D-AC84-501ED06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1C87-153F-4232-9A8A-75F8726363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