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0CF9-6C00-455D-9343-5394BB1E6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E926F-07F8-43A0-9261-C2580FCE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CC786-FA8A-4463-82A1-FB73ED157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0A810-BB33-480E-A092-448E91C6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0ABA-0162-4F3E-9EE0-C05D5DAF2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A6F47-35AC-4DC6-8757-07A729D57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256BB-C261-44C9-B8DB-39A0F249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E899C-E49B-41B6-AB1D-47E78677F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3429F-5FC7-4493-B992-3FFABBFFD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50D44-FA7D-4F80-AAA2-FD8723054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E395-C2E2-4012-A452-D35629AE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116E3-9DEE-42D1-A1CD-E7FEABBA5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F3120-70B3-44AE-9584-D6775C06D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ivots applied to other column pan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7920" y="3505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447920" y="4648320"/>
            <a:ext cx="2819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895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0040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50532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809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038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6668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752480" y="350532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76440" y="380988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71720" y="2819520"/>
            <a:ext cx="40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3352680"/>
            <a:ext cx="3809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ute block row of 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trs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railing sub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m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514600" y="3657600"/>
            <a:ext cx="1752480" cy="15238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5257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019920" y="31240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78168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543800" y="31240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257800" y="3809880"/>
            <a:ext cx="762120" cy="685800"/>
          </a:xfrm>
          <a:prstGeom prst="rect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3809880"/>
            <a:ext cx="76176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78168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543800" y="3809880"/>
            <a:ext cx="762120" cy="6858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5486400" y="3886200"/>
            <a:ext cx="228600" cy="60948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486400" y="3962520"/>
            <a:ext cx="228600" cy="22860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5715000" y="3962520"/>
            <a:ext cx="30492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4120" y="3962520"/>
            <a:ext cx="1522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342900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23996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47820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4022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24032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8002440" y="3429000"/>
            <a:ext cx="2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8002080" y="3962520"/>
            <a:ext cx="27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486400" y="3276720"/>
            <a:ext cx="228600" cy="533160"/>
          </a:xfrm>
          <a:prstGeom prst="rect">
            <a:avLst/>
          </a:prstGeom>
          <a:solidFill>
            <a:srgbClr val="ff00ff">
              <a:alpha val="50000"/>
            </a:srgbClr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696080" y="3962520"/>
            <a:ext cx="60984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934320" y="3962520"/>
            <a:ext cx="609480" cy="228600"/>
          </a:xfrm>
          <a:prstGeom prst="rect">
            <a:avLst/>
          </a:prstGeom>
          <a:solidFill>
            <a:srgbClr val="cc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209680" y="3352680"/>
            <a:ext cx="2057400" cy="304920"/>
          </a:xfrm>
          <a:custGeom>
            <a:avLst/>
            <a:gdLst/>
            <a:ahLst/>
            <a:rect l="l" t="t" r="r" b="b"/>
            <a:pathLst>
              <a:path w="1296" h="192">
                <a:moveTo>
                  <a:pt x="0" y="0"/>
                </a:moveTo>
                <a:lnTo>
                  <a:pt x="1296" y="0"/>
                </a:lnTo>
                <a:lnTo>
                  <a:pt x="1296" y="192"/>
                </a:lnTo>
                <a:lnTo>
                  <a:pt x="192" y="192"/>
                </a:lnTo>
                <a:lnTo>
                  <a:pt x="0" y="0"/>
                </a:lnTo>
                <a:close/>
              </a:path>
            </a:pathLst>
          </a:custGeom>
          <a:solidFill>
            <a:srgbClr val="ccffff"/>
          </a:solidFill>
          <a:ln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/>
          </p:nvPr>
        </p:nvSpPr>
        <p:spPr>
          <a:xfrm>
            <a:off x="1309320" y="2109960"/>
            <a:ext cx="707868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7150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162920" y="41911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924680" y="41911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p matrix to 2x4 gri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/>
          </p:nvPr>
        </p:nvSpPr>
        <p:spPr>
          <a:xfrm>
            <a:off x="10666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447920" y="2133720"/>
            <a:ext cx="0" cy="3429000"/>
          </a:xfrm>
          <a:prstGeom prst="line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133720" y="2133720"/>
            <a:ext cx="5715000" cy="37335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133720" y="2133720"/>
            <a:ext cx="289548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128680" y="2128680"/>
            <a:ext cx="1444680" cy="419580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133720"/>
            <a:ext cx="144792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434340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7913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71629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2133720"/>
            <a:ext cx="685800" cy="419076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29200" y="2133720"/>
            <a:ext cx="762120" cy="68580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133720" y="28195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581280" y="4419720"/>
            <a:ext cx="221004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5791320" y="35812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2133720" y="41911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133720" y="4419720"/>
            <a:ext cx="7617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895480" y="30481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952880"/>
            <a:ext cx="685800" cy="60984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2133720" y="5562720"/>
            <a:ext cx="5715000" cy="22860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133720" y="5791320"/>
            <a:ext cx="144756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4343400" y="5791320"/>
            <a:ext cx="213372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52280" y="2209680"/>
            <a:ext cx="914400" cy="762120"/>
          </a:xfrm>
          <a:prstGeom prst="rect">
            <a:avLst/>
          </a:prstGeom>
          <a:solidFill>
            <a:srgbClr val="ff99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a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280" y="3581280"/>
            <a:ext cx="1143000" cy="304920"/>
          </a:xfrm>
          <a:prstGeom prst="rect">
            <a:avLst/>
          </a:prstGeom>
          <a:solidFill>
            <a:srgbClr val="ccff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52280" y="4038480"/>
            <a:ext cx="762120" cy="30492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a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2133720" y="24382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2133720" y="2666880"/>
            <a:ext cx="76176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029200" y="24382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029200" y="266688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581280" y="40384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895480" y="243828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581280" y="3809880"/>
            <a:ext cx="22100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5791320" y="3048120"/>
            <a:ext cx="20574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579132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132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43400" y="510552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77120" y="510552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43400" y="5257800"/>
            <a:ext cx="21337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477120" y="525780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6477120" y="4419720"/>
            <a:ext cx="13716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162920" y="5791320"/>
            <a:ext cx="685800" cy="228600"/>
          </a:xfrm>
          <a:prstGeom prst="rect">
            <a:avLst/>
          </a:prstGeom>
          <a:solidFill>
            <a:srgbClr val="00ccff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895480" y="38098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895480" y="4038480"/>
            <a:ext cx="68580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81280" y="525780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>
            <a:off x="2895120" y="2666520"/>
            <a:ext cx="213444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2133720" y="32767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133720" y="46483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133720" y="6019920"/>
            <a:ext cx="5715000" cy="30456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52280" y="3124080"/>
            <a:ext cx="914400" cy="304920"/>
          </a:xfrm>
          <a:prstGeom prst="rect">
            <a:avLst/>
          </a:prstGeom>
          <a:solidFill>
            <a:srgbClr val="9900cc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73152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6294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59436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44956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8098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1676520"/>
            <a:ext cx="2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62320" y="1676520"/>
            <a:ext cx="2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581280" y="5105520"/>
            <a:ext cx="762120" cy="0"/>
          </a:xfrm>
          <a:prstGeom prst="line">
            <a:avLst/>
          </a:prstGeom>
          <a:ln w="2232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1532160" y="2814480"/>
            <a:ext cx="371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Timeline of next three iterations, original algorith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257800" y="3352680"/>
            <a:ext cx="358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rrent ‘panel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gin factorization of  diagonal bloc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getf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257800" y="3352680"/>
            <a:ext cx="358128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nd maximum element in current column (pivot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ama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wap rows within the current pane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wa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209680" y="4114800"/>
            <a:ext cx="76320" cy="763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209680" y="419112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9680" y="3429000"/>
            <a:ext cx="304920" cy="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4" name=""/>
          <p:cNvCxnSpPr>
            <a:stCxn id="102" idx="0"/>
            <a:endCxn id="91" idx="3"/>
          </p:cNvCxnSpPr>
          <p:nvPr/>
        </p:nvCxnSpPr>
        <p:spPr>
          <a:xfrm flipH="1" flipV="1" rot="5400000">
            <a:off x="2172240" y="3846960"/>
            <a:ext cx="694440" cy="10080"/>
          </a:xfrm>
          <a:prstGeom prst="curvedConnector5">
            <a:avLst>
              <a:gd name="adj1" fmla="val 6172"/>
              <a:gd name="adj2" fmla="val 1200000"/>
              <a:gd name="adj3" fmla="val 6172"/>
            </a:avLst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257800" y="3352680"/>
            <a:ext cx="35812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e current column by piv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(pdsc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86000" y="3429000"/>
            <a:ext cx="0" cy="1752480"/>
          </a:xfrm>
          <a:prstGeom prst="line">
            <a:avLst/>
          </a:prstGeom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209680" y="3352680"/>
            <a:ext cx="304920" cy="1828800"/>
          </a:xfrm>
          <a:custGeom>
            <a:avLst/>
            <a:gdLst/>
            <a:ahLst/>
            <a:rect l="l" t="t" r="r" b="b"/>
            <a:pathLst>
              <a:path w="192" h="1152">
                <a:moveTo>
                  <a:pt x="0" y="0"/>
                </a:moveTo>
                <a:lnTo>
                  <a:pt x="192" y="192"/>
                </a:lnTo>
                <a:lnTo>
                  <a:pt x="192" y="1152"/>
                </a:lnTo>
                <a:lnTo>
                  <a:pt x="0" y="1152"/>
                </a:lnTo>
                <a:lnTo>
                  <a:pt x="0" y="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nk one modification within panel (pdge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257800" y="335268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peat until block is factor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napshot of Block L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447920" y="2590920"/>
            <a:ext cx="2819160" cy="2590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209680" y="3352680"/>
            <a:ext cx="304920" cy="304920"/>
          </a:xfrm>
          <a:prstGeom prst="rect">
            <a:avLst/>
          </a:prstGeom>
          <a:solidFill>
            <a:srgbClr val="c0c0c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47920" y="2590920"/>
            <a:ext cx="761760" cy="76176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600200" y="380988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895480" y="2819520"/>
            <a:ext cx="379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209680" y="3657600"/>
            <a:ext cx="0" cy="1523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514600" y="3352680"/>
            <a:ext cx="1752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57800" y="335268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roadcast pivot information to all process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09680" y="3657600"/>
            <a:ext cx="304920" cy="1523880"/>
          </a:xfrm>
          <a:prstGeom prst="rect">
            <a:avLst/>
          </a:prstGeom>
          <a:solidFill>
            <a:srgbClr val="ffcc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209680" y="3352680"/>
            <a:ext cx="76320" cy="76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H="1">
            <a:off x="159984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H="1">
            <a:off x="1905120" y="35053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14600" y="3505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514600" y="3505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35053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514600" y="35053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514600" y="350532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514600" y="350532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209680" y="3352680"/>
            <a:ext cx="304920" cy="304920"/>
          </a:xfrm>
          <a:custGeom>
            <a:avLst/>
            <a:gdLst/>
            <a:ahLst/>
            <a:rect l="l" t="t" r="r" b="b"/>
            <a:pathLst>
              <a:path w="192" h="192">
                <a:moveTo>
                  <a:pt x="0" y="192"/>
                </a:moveTo>
                <a:lnTo>
                  <a:pt x="0" y="0"/>
                </a:lnTo>
                <a:lnTo>
                  <a:pt x="192" y="192"/>
                </a:lnTo>
                <a:lnTo>
                  <a:pt x="0" y="192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1T23:24:48Z</dcterms:created>
  <dc:creator>marybeth</dc:creator>
  <dc:description/>
  <dc:language>en-US</dc:language>
  <cp:lastModifiedBy>jglewis</cp:lastModifiedBy>
  <dcterms:modified xsi:type="dcterms:W3CDTF">2005-11-07T23:27:06Z</dcterms:modified>
  <cp:revision>4</cp:revision>
  <dc:subject/>
  <dc:title>ScaLAPACK Tuning </dc:title>
</cp:coreProperties>
</file>