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5FCB-1EAF-48D0-85E6-3FC7B075F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ACC7-480A-4E23-AB91-04753E8E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2C6F-32E5-4CDE-9021-4AA474174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8609-3609-40F9-BB08-C4837D8C6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D587-1B75-4938-8419-38B0FFA7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4C92-EE73-4D89-A36A-6B9E2092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4234-4466-4689-920F-8B3ADD46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74E1-96E1-40E3-A6C5-D3FF991D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6A80-00B7-4CCA-A0F7-0EEA55AD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E6D6-B3DF-437D-8A1A-C9C9D804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72AB-E575-493F-BD7A-E9EBE77A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6DBA-1EF1-4DA8-A091-DA1091E7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CC94-4175-469A-A43E-05B17A20D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1143000"/>
            <a:ext cx="2362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électionner les meilleurs descripte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105520" y="289548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naly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3505320"/>
            <a:ext cx="76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escript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579132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chercher une structure dans des données multivarié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324480" y="5943600"/>
            <a:ext cx="15264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Extraire les composantes et les transformer en objets ‘time serie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228600"/>
            <a:ext cx="8380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86200" y="106668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xplo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286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nées br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6094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bjet </a:t>
            </a: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‘data frame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6094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ques descrip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76920" y="12952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380880"/>
            <a:ext cx="8384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po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9" idx="2"/>
            <a:endCxn id="50" idx="0"/>
          </p:cNvCxnSpPr>
          <p:nvPr/>
        </p:nvCxnSpPr>
        <p:spPr>
          <a:xfrm flipH="1" flipV="1" rot="5400000">
            <a:off x="4533480" y="-152640"/>
            <a:ext cx="381600" cy="1905480"/>
          </a:xfrm>
          <a:prstGeom prst="bentConnector5">
            <a:avLst>
              <a:gd name="adj1" fmla="val -60717"/>
              <a:gd name="adj2" fmla="val -54157"/>
              <a:gd name="adj3" fmla="val 160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2"/>
            <a:endCxn id="51" idx="0"/>
          </p:cNvCxnSpPr>
          <p:nvPr/>
        </p:nvCxnSpPr>
        <p:spPr>
          <a:xfrm flipH="1" rot="16200000">
            <a:off x="4572000" y="190440"/>
            <a:ext cx="304920" cy="1905480"/>
          </a:xfrm>
          <a:prstGeom prst="bentConnector5">
            <a:avLst>
              <a:gd name="adj1" fmla="val 76004"/>
              <a:gd name="adj2" fmla="val -54157"/>
              <a:gd name="adj3" fmla="val -2013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5181480" y="495288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étecter des discontinuités dans le temps ou l’e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60199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liminat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filtrage par différen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5146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bjet </a:t>
            </a: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‘time serie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9" idx="2"/>
            <a:endCxn id="59" idx="0"/>
          </p:cNvCxnSpPr>
          <p:nvPr/>
        </p:nvCxnSpPr>
        <p:spPr>
          <a:xfrm flipH="1" rot="16200000">
            <a:off x="3314520" y="1447560"/>
            <a:ext cx="914760" cy="7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4600" y="25146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égula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49" idx="2"/>
            <a:endCxn id="62" idx="0"/>
          </p:cNvCxnSpPr>
          <p:nvPr/>
        </p:nvCxnSpPr>
        <p:spPr>
          <a:xfrm rot="5400000">
            <a:off x="2361960" y="266760"/>
            <a:ext cx="686160" cy="213372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60" idx="3"/>
            <a:endCxn id="57" idx="1"/>
          </p:cNvCxnSpPr>
          <p:nvPr/>
        </p:nvCxnSpPr>
        <p:spPr>
          <a:xfrm>
            <a:off x="4114800" y="2705040"/>
            <a:ext cx="6098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2590920" y="1523880"/>
            <a:ext cx="22096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Transformer en objets ‘time serie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1676520"/>
            <a:ext cx="533520" cy="38088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24382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 par abon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6765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résence d’espères rares?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9" idx="3"/>
            <a:endCxn id="57" idx="0"/>
          </p:cNvCxnSpPr>
          <p:nvPr/>
        </p:nvCxnSpPr>
        <p:spPr>
          <a:xfrm>
            <a:off x="4038480" y="2095560"/>
            <a:ext cx="1486080" cy="419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9" idx="1"/>
            <a:endCxn id="60" idx="0"/>
          </p:cNvCxnSpPr>
          <p:nvPr/>
        </p:nvCxnSpPr>
        <p:spPr>
          <a:xfrm flipV="1" rot="10800000">
            <a:off x="3314520" y="2095560"/>
            <a:ext cx="191160" cy="419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124080" y="2133720"/>
            <a:ext cx="3812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2133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31240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éthode d’Escouf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2" idx="1"/>
            <a:endCxn id="65" idx="0"/>
          </p:cNvCxnSpPr>
          <p:nvPr/>
        </p:nvCxnSpPr>
        <p:spPr>
          <a:xfrm flipV="1" rot="10800000">
            <a:off x="1180800" y="1866600"/>
            <a:ext cx="191160" cy="571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2" idx="3"/>
            <a:endCxn id="71" idx="0"/>
          </p:cNvCxnSpPr>
          <p:nvPr/>
        </p:nvCxnSpPr>
        <p:spPr>
          <a:xfrm flipH="1">
            <a:off x="1180800" y="1866960"/>
            <a:ext cx="724680" cy="1257480"/>
          </a:xfrm>
          <a:prstGeom prst="bentConnector4">
            <a:avLst>
              <a:gd name="adj1" fmla="val -32504"/>
              <a:gd name="adj2" fmla="val 5761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1981080" y="1981080"/>
            <a:ext cx="3812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198108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65" idx="1"/>
            <a:endCxn id="49" idx="1"/>
          </p:cNvCxnSpPr>
          <p:nvPr/>
        </p:nvCxnSpPr>
        <p:spPr>
          <a:xfrm flipH="1" rot="10800000">
            <a:off x="380520" y="799920"/>
            <a:ext cx="2591280" cy="1829160"/>
          </a:xfrm>
          <a:prstGeom prst="bentConnector3">
            <a:avLst>
              <a:gd name="adj1" fmla="val -894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71" idx="1"/>
            <a:endCxn id="49" idx="1"/>
          </p:cNvCxnSpPr>
          <p:nvPr/>
        </p:nvCxnSpPr>
        <p:spPr>
          <a:xfrm flipH="1" rot="10800000">
            <a:off x="380520" y="799560"/>
            <a:ext cx="2591280" cy="2514960"/>
          </a:xfrm>
          <a:prstGeom prst="bentConnector3">
            <a:avLst>
              <a:gd name="adj1" fmla="val -894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8" idx="3"/>
            <a:endCxn id="49" idx="0"/>
          </p:cNvCxnSpPr>
          <p:nvPr/>
        </p:nvCxnSpPr>
        <p:spPr>
          <a:xfrm>
            <a:off x="1905120" y="419040"/>
            <a:ext cx="1866960" cy="190800"/>
          </a:xfrm>
          <a:prstGeom prst="bentConnector4">
            <a:avLst>
              <a:gd name="adj1" fmla="val 28582"/>
              <a:gd name="adj2" fmla="val -217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380880" y="40384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ques gliss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38862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utocorrelat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un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1532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liminat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moyennes mobi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67816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 forme quelconq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VF, LOESS sous 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64008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on un modè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égress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48769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ance loc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ommes cumulé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73915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pectre (un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85345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édianes mob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89154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 forme quelconq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OE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85345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lon un modèl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régression sinusoid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81480" y="731520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écompo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845820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isser/Filt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67816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67080" y="44197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chelle caractéristiqu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tournogram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67080" y="40384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é d’inform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oints de retourne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77724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spectre (bivarié)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hérence &amp; dépha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90920" y="73915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1" idx="1"/>
            <a:endCxn id="56" idx="3"/>
          </p:cNvCxnSpPr>
          <p:nvPr/>
        </p:nvCxnSpPr>
        <p:spPr>
          <a:xfrm rot="10800000">
            <a:off x="1981080" y="6210360"/>
            <a:ext cx="610200" cy="76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87" idx="1"/>
            <a:endCxn id="57" idx="3"/>
          </p:cNvCxnSpPr>
          <p:nvPr/>
        </p:nvCxnSpPr>
        <p:spPr>
          <a:xfrm flipH="1" rot="10800000">
            <a:off x="380880" y="2705040"/>
            <a:ext cx="5943960" cy="6401160"/>
          </a:xfrm>
          <a:prstGeom prst="bentConnector5">
            <a:avLst>
              <a:gd name="adj1" fmla="val -3900"/>
              <a:gd name="adj2" fmla="val 49994"/>
              <a:gd name="adj3" fmla="val 10389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8" idx="1"/>
            <a:endCxn id="87" idx="1"/>
          </p:cNvCxnSpPr>
          <p:nvPr/>
        </p:nvCxnSpPr>
        <p:spPr>
          <a:xfrm rot="10800000">
            <a:off x="380880" y="8724960"/>
            <a:ext cx="360" cy="3812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9" name=""/>
          <p:cNvCxnSpPr>
            <a:stCxn id="81" idx="1"/>
            <a:endCxn id="87" idx="1"/>
          </p:cNvCxnSpPr>
          <p:nvPr/>
        </p:nvCxnSpPr>
        <p:spPr>
          <a:xfrm rot="10800000">
            <a:off x="380880" y="8343360"/>
            <a:ext cx="360" cy="76248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0" name=""/>
          <p:cNvCxnSpPr>
            <a:stCxn id="82" idx="1"/>
            <a:endCxn id="81" idx="1"/>
          </p:cNvCxnSpPr>
          <p:nvPr/>
        </p:nvCxnSpPr>
        <p:spPr>
          <a:xfrm rot="10800000">
            <a:off x="380880" y="6972120"/>
            <a:ext cx="360" cy="137196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1" name=""/>
          <p:cNvCxnSpPr>
            <a:stCxn id="83" idx="1"/>
            <a:endCxn id="81" idx="1"/>
          </p:cNvCxnSpPr>
          <p:nvPr/>
        </p:nvCxnSpPr>
        <p:spPr>
          <a:xfrm rot="10800000">
            <a:off x="380880" y="6591240"/>
            <a:ext cx="360" cy="17528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" name=""/>
          <p:cNvCxnSpPr>
            <a:stCxn id="56" idx="1"/>
            <a:endCxn id="83" idx="1"/>
          </p:cNvCxnSpPr>
          <p:nvPr/>
        </p:nvCxnSpPr>
        <p:spPr>
          <a:xfrm rot="10800000">
            <a:off x="380880" y="6210360"/>
            <a:ext cx="360" cy="3812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3" name=""/>
          <p:cNvSpPr/>
          <p:nvPr/>
        </p:nvSpPr>
        <p:spPr>
          <a:xfrm>
            <a:off x="2590920" y="89154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rage par 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eurs prop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1" idx="1"/>
            <a:endCxn id="84" idx="3"/>
          </p:cNvCxnSpPr>
          <p:nvPr/>
        </p:nvCxnSpPr>
        <p:spPr>
          <a:xfrm rot="10800000">
            <a:off x="1981080" y="5067000"/>
            <a:ext cx="610200" cy="1905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1" idx="1"/>
            <a:endCxn id="106" idx="3"/>
          </p:cNvCxnSpPr>
          <p:nvPr/>
        </p:nvCxnSpPr>
        <p:spPr>
          <a:xfrm rot="10800000">
            <a:off x="1447560" y="5524200"/>
            <a:ext cx="1143360" cy="1447920"/>
          </a:xfrm>
          <a:prstGeom prst="bentConnector3">
            <a:avLst>
              <a:gd name="adj1" fmla="val 498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1" idx="1"/>
            <a:endCxn id="83" idx="3"/>
          </p:cNvCxnSpPr>
          <p:nvPr/>
        </p:nvCxnSpPr>
        <p:spPr>
          <a:xfrm rot="10800000">
            <a:off x="1981080" y="6591240"/>
            <a:ext cx="610200" cy="381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1" idx="1"/>
            <a:endCxn id="82" idx="3"/>
          </p:cNvCxnSpPr>
          <p:nvPr/>
        </p:nvCxnSpPr>
        <p:spPr>
          <a:xfrm rot="10800000">
            <a:off x="1981080" y="6972120"/>
            <a:ext cx="6102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95" idx="1"/>
            <a:endCxn id="85" idx="3"/>
          </p:cNvCxnSpPr>
          <p:nvPr/>
        </p:nvCxnSpPr>
        <p:spPr>
          <a:xfrm rot="10800000">
            <a:off x="1981080" y="7581960"/>
            <a:ext cx="6102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95" idx="1"/>
            <a:endCxn id="94" idx="3"/>
          </p:cNvCxnSpPr>
          <p:nvPr/>
        </p:nvCxnSpPr>
        <p:spPr>
          <a:xfrm flipV="1" rot="10800000">
            <a:off x="1981080" y="7581960"/>
            <a:ext cx="610200" cy="381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95" idx="1"/>
            <a:endCxn id="81" idx="3"/>
          </p:cNvCxnSpPr>
          <p:nvPr/>
        </p:nvCxnSpPr>
        <p:spPr>
          <a:xfrm flipV="1" rot="10800000">
            <a:off x="1981080" y="7581960"/>
            <a:ext cx="610200" cy="76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95" idx="1"/>
            <a:endCxn id="88" idx="3"/>
          </p:cNvCxnSpPr>
          <p:nvPr/>
        </p:nvCxnSpPr>
        <p:spPr>
          <a:xfrm flipV="1" rot="10800000">
            <a:off x="1981080" y="7581600"/>
            <a:ext cx="610200" cy="1143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95" idx="1"/>
            <a:endCxn id="87" idx="3"/>
          </p:cNvCxnSpPr>
          <p:nvPr/>
        </p:nvCxnSpPr>
        <p:spPr>
          <a:xfrm flipV="1" rot="10800000">
            <a:off x="1981080" y="7581600"/>
            <a:ext cx="610200" cy="1524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endCxn id="86" idx="3"/>
          </p:cNvCxnSpPr>
          <p:nvPr/>
        </p:nvCxnSpPr>
        <p:spPr>
          <a:xfrm flipV="1" rot="10800000">
            <a:off x="4191120" y="2895120"/>
            <a:ext cx="1867320" cy="5830200"/>
          </a:xfrm>
          <a:prstGeom prst="bentConnector3">
            <a:avLst>
              <a:gd name="adj1" fmla="val 437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86" idx="3"/>
            <a:endCxn id="103" idx="3"/>
          </p:cNvCxnSpPr>
          <p:nvPr/>
        </p:nvCxnSpPr>
        <p:spPr>
          <a:xfrm>
            <a:off x="4191120" y="8724960"/>
            <a:ext cx="360" cy="38124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3" idx="1"/>
            <a:endCxn id="87" idx="1"/>
          </p:cNvCxnSpPr>
          <p:nvPr/>
        </p:nvCxnSpPr>
        <p:spPr>
          <a:xfrm rot="10800000">
            <a:off x="380520" y="9105840"/>
            <a:ext cx="2210400" cy="360"/>
          </a:xfrm>
          <a:prstGeom prst="bentConnector5">
            <a:avLst>
              <a:gd name="adj1" fmla="val 13797"/>
              <a:gd name="adj2" fmla="val 117300000"/>
              <a:gd name="adj3" fmla="val 1104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" name=""/>
          <p:cNvCxnSpPr>
            <a:stCxn id="86" idx="1"/>
            <a:endCxn id="103" idx="1"/>
          </p:cNvCxnSpPr>
          <p:nvPr/>
        </p:nvCxnSpPr>
        <p:spPr>
          <a:xfrm rot="10800000">
            <a:off x="2590920" y="8724960"/>
            <a:ext cx="360" cy="3812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" name=""/>
          <p:cNvCxnSpPr/>
          <p:nvPr/>
        </p:nvCxnSpPr>
        <p:spPr>
          <a:xfrm rot="5400000">
            <a:off x="2780640" y="4305240"/>
            <a:ext cx="4687200" cy="1867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5" idx="3"/>
            <a:endCxn id="91" idx="3"/>
          </p:cNvCxnSpPr>
          <p:nvPr/>
        </p:nvCxnSpPr>
        <p:spPr>
          <a:xfrm>
            <a:off x="4191120" y="6972120"/>
            <a:ext cx="360" cy="61020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84" idx="0"/>
            <a:endCxn id="79" idx="2"/>
          </p:cNvCxnSpPr>
          <p:nvPr/>
        </p:nvCxnSpPr>
        <p:spPr>
          <a:xfrm flipV="1">
            <a:off x="1180800" y="441972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685800" y="457200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écr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06" idx="2"/>
            <a:endCxn id="56" idx="0"/>
          </p:cNvCxnSpPr>
          <p:nvPr/>
        </p:nvCxnSpPr>
        <p:spPr>
          <a:xfrm flipH="1">
            <a:off x="1180800" y="5715000"/>
            <a:ext cx="7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914400" y="5334120"/>
            <a:ext cx="533520" cy="38088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5715000"/>
            <a:ext cx="3808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5334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xiste-t-el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81532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yennes mob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49" idx="3"/>
            <a:endCxn id="49" idx="0"/>
          </p:cNvCxnSpPr>
          <p:nvPr/>
        </p:nvCxnSpPr>
        <p:spPr>
          <a:xfrm flipH="1" flipV="1">
            <a:off x="3771720" y="609480"/>
            <a:ext cx="800640" cy="190800"/>
          </a:xfrm>
          <a:prstGeom prst="bentConnector4">
            <a:avLst>
              <a:gd name="adj1" fmla="val -28924"/>
              <a:gd name="adj2" fmla="val 2217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286000" y="42670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utoD2/CrossD2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mult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53341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2 au centr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mult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61722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CP, AFC,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61722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dendrogramme, M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0" y="35053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istogramm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mult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31240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ariogramm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un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05320" y="1905120"/>
            <a:ext cx="533160" cy="38088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00400" y="190512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tervalle d’échantillonnage régulier?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3276720"/>
            <a:ext cx="533160" cy="38088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48320" y="3276720"/>
            <a:ext cx="106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elon quel axe?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95" idx="3"/>
            <a:endCxn id="134" idx="0"/>
          </p:cNvCxnSpPr>
          <p:nvPr/>
        </p:nvCxnSpPr>
        <p:spPr>
          <a:xfrm flipV="1">
            <a:off x="4191120" y="3276720"/>
            <a:ext cx="952920" cy="4305600"/>
          </a:xfrm>
          <a:prstGeom prst="bentConnector4">
            <a:avLst>
              <a:gd name="adj1" fmla="val 35789"/>
              <a:gd name="adj2" fmla="val 10540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34" idx="1"/>
            <a:endCxn id="132" idx="3"/>
          </p:cNvCxnSpPr>
          <p:nvPr/>
        </p:nvCxnSpPr>
        <p:spPr>
          <a:xfrm rot="10800000">
            <a:off x="3886200" y="3314520"/>
            <a:ext cx="991080" cy="153000"/>
          </a:xfrm>
          <a:prstGeom prst="bentConnector3">
            <a:avLst>
              <a:gd name="adj1" fmla="val 501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34" idx="1"/>
            <a:endCxn id="131" idx="3"/>
          </p:cNvCxnSpPr>
          <p:nvPr/>
        </p:nvCxnSpPr>
        <p:spPr>
          <a:xfrm flipV="1" rot="10800000">
            <a:off x="3886200" y="3466800"/>
            <a:ext cx="991080" cy="228960"/>
          </a:xfrm>
          <a:prstGeom prst="bentConnector3">
            <a:avLst>
              <a:gd name="adj1" fmla="val 501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31" idx="3"/>
            <a:endCxn id="80" idx="3"/>
          </p:cNvCxnSpPr>
          <p:nvPr/>
        </p:nvCxnSpPr>
        <p:spPr>
          <a:xfrm>
            <a:off x="3886200" y="3695760"/>
            <a:ext cx="360" cy="38124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80" idx="3"/>
            <a:endCxn id="127" idx="3"/>
          </p:cNvCxnSpPr>
          <p:nvPr/>
        </p:nvCxnSpPr>
        <p:spPr>
          <a:xfrm>
            <a:off x="3886200" y="4076640"/>
            <a:ext cx="360" cy="38124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34" idx="3"/>
            <a:endCxn id="93" idx="0"/>
          </p:cNvCxnSpPr>
          <p:nvPr/>
        </p:nvCxnSpPr>
        <p:spPr>
          <a:xfrm flipH="1">
            <a:off x="5067000" y="3467160"/>
            <a:ext cx="343440" cy="571680"/>
          </a:xfrm>
          <a:prstGeom prst="bentConnector4">
            <a:avLst>
              <a:gd name="adj1" fmla="val -200734"/>
              <a:gd name="adj2" fmla="val -740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5486400" y="3505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e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86" idx="3"/>
            <a:endCxn id="125" idx="3"/>
          </p:cNvCxnSpPr>
          <p:nvPr/>
        </p:nvCxnSpPr>
        <p:spPr>
          <a:xfrm>
            <a:off x="4191120" y="8343720"/>
            <a:ext cx="360" cy="38160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25" idx="1"/>
            <a:endCxn id="86" idx="1"/>
          </p:cNvCxnSpPr>
          <p:nvPr/>
        </p:nvCxnSpPr>
        <p:spPr>
          <a:xfrm rot="10800000">
            <a:off x="2590920" y="8343360"/>
            <a:ext cx="360" cy="38160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5" name=""/>
          <p:cNvSpPr/>
          <p:nvPr/>
        </p:nvSpPr>
        <p:spPr>
          <a:xfrm>
            <a:off x="4114800" y="53341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édianes mobiles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un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95" idx="3"/>
            <a:endCxn id="130" idx="0"/>
          </p:cNvCxnSpPr>
          <p:nvPr/>
        </p:nvCxnSpPr>
        <p:spPr>
          <a:xfrm flipV="1">
            <a:off x="4191120" y="6172200"/>
            <a:ext cx="723960" cy="1410120"/>
          </a:xfrm>
          <a:prstGeom prst="bentConnector4">
            <a:avLst>
              <a:gd name="adj1" fmla="val 242636"/>
              <a:gd name="adj2" fmla="val 116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0" idx="0"/>
            <a:endCxn id="129" idx="0"/>
          </p:cNvCxnSpPr>
          <p:nvPr/>
        </p:nvCxnSpPr>
        <p:spPr>
          <a:xfrm rot="16200000">
            <a:off x="4114440" y="5371920"/>
            <a:ext cx="360" cy="1600560"/>
          </a:xfrm>
          <a:prstGeom prst="bentConnector3">
            <a:avLst>
              <a:gd name="adj1" fmla="val -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95" idx="3"/>
            <a:endCxn id="145" idx="0"/>
          </p:cNvCxnSpPr>
          <p:nvPr/>
        </p:nvCxnSpPr>
        <p:spPr>
          <a:xfrm flipV="1">
            <a:off x="4191120" y="5334120"/>
            <a:ext cx="723960" cy="2248200"/>
          </a:xfrm>
          <a:prstGeom prst="bentConnector4">
            <a:avLst>
              <a:gd name="adj1" fmla="val 242636"/>
              <a:gd name="adj2" fmla="val 11029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5" idx="0"/>
            <a:endCxn id="128" idx="0"/>
          </p:cNvCxnSpPr>
          <p:nvPr/>
        </p:nvCxnSpPr>
        <p:spPr>
          <a:xfrm rot="16200000">
            <a:off x="4114440" y="4533840"/>
            <a:ext cx="360" cy="1600560"/>
          </a:xfrm>
          <a:prstGeom prst="bentConnector3">
            <a:avLst>
              <a:gd name="adj1" fmla="val -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/>
          <p:nvPr/>
        </p:nvCxnSpPr>
        <p:spPr>
          <a:xfrm rot="10800000">
            <a:off x="1980360" y="4952160"/>
            <a:ext cx="1372320" cy="229320"/>
          </a:xfrm>
          <a:prstGeom prst="bentConnector3">
            <a:avLst>
              <a:gd name="adj1" fmla="val 56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3520" y="1066680"/>
            <a:ext cx="685800" cy="609840"/>
          </a:xfrm>
          <a:prstGeom prst="flowChartInternalStorage">
            <a:avLst/>
          </a:prstGeom>
          <a:solidFill>
            <a:srgbClr val="b2b2b2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1219320"/>
            <a:ext cx="609480" cy="304560"/>
          </a:xfrm>
          <a:custGeom>
            <a:avLst/>
            <a:gdLst>
              <a:gd name="textAreaLeft" fmla="*/ 95040 w 609480"/>
              <a:gd name="textAreaRight" fmla="*/ 533520 w 6094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b2b2b2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09680" y="1066680"/>
            <a:ext cx="685800" cy="60984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1066680"/>
            <a:ext cx="609480" cy="609840"/>
          </a:xfrm>
          <a:prstGeom prst="flowChartMultidocumen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24280" y="1219320"/>
            <a:ext cx="609840" cy="304560"/>
          </a:xfrm>
          <a:custGeom>
            <a:avLst/>
            <a:gdLst>
              <a:gd name="textAreaLeft" fmla="*/ 95040 w 609840"/>
              <a:gd name="textAreaRight" fmla="*/ 533880 w 6098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00cc99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1066680"/>
            <a:ext cx="685800" cy="60984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3276720"/>
            <a:ext cx="609840" cy="609480"/>
          </a:xfrm>
          <a:prstGeom prst="flowChartMultidocumen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8120" y="2286000"/>
            <a:ext cx="533160" cy="457200"/>
          </a:xfrm>
          <a:prstGeom prst="flowChartDocumen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2209680"/>
            <a:ext cx="457200" cy="457200"/>
          </a:xfrm>
          <a:prstGeom prst="flowChartDocumen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1219320"/>
            <a:ext cx="609480" cy="304560"/>
          </a:xfrm>
          <a:custGeom>
            <a:avLst/>
            <a:gdLst>
              <a:gd name="textAreaLeft" fmla="*/ 95040 w 609480"/>
              <a:gd name="textAreaRight" fmla="*/ 533520 w 6094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6" idx="3"/>
            <a:endCxn id="158" idx="0"/>
          </p:cNvCxnSpPr>
          <p:nvPr/>
        </p:nvCxnSpPr>
        <p:spPr>
          <a:xfrm flipH="1">
            <a:off x="3314520" y="1676160"/>
            <a:ext cx="2591280" cy="6102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62" name=""/>
          <p:cNvCxnSpPr>
            <a:stCxn id="156" idx="3"/>
            <a:endCxn id="157" idx="0"/>
          </p:cNvCxnSpPr>
          <p:nvPr/>
        </p:nvCxnSpPr>
        <p:spPr>
          <a:xfrm flipH="1">
            <a:off x="3657240" y="1676160"/>
            <a:ext cx="2248560" cy="16009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63" name=""/>
          <p:cNvCxnSpPr>
            <a:stCxn id="156" idx="3"/>
            <a:endCxn id="159" idx="0"/>
          </p:cNvCxnSpPr>
          <p:nvPr/>
        </p:nvCxnSpPr>
        <p:spPr>
          <a:xfrm>
            <a:off x="5905440" y="1676160"/>
            <a:ext cx="115200" cy="5338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64" name=""/>
          <p:cNvSpPr/>
          <p:nvPr/>
        </p:nvSpPr>
        <p:spPr>
          <a:xfrm>
            <a:off x="5029200" y="3200400"/>
            <a:ext cx="685800" cy="6094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91120" y="3352680"/>
            <a:ext cx="609480" cy="304920"/>
          </a:xfrm>
          <a:custGeom>
            <a:avLst/>
            <a:gdLst>
              <a:gd name="textAreaLeft" fmla="*/ 95040 w 609480"/>
              <a:gd name="textAreaRight" fmla="*/ 533520 w 609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9000" y="685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ata 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64120" y="68112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g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12400" y="68580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tim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68720" y="6858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t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22960" y="220968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im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57800" y="2819520"/>
            <a:ext cx="3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t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5400" y="33526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9:59:45Z</dcterms:created>
  <dc:creator>Grosjean Philippe</dc:creator>
  <dc:description/>
  <dc:language>en-US</dc:language>
  <cp:lastModifiedBy>Grosjean Philippe</cp:lastModifiedBy>
  <dcterms:modified xsi:type="dcterms:W3CDTF">2002-02-19T12:05:13Z</dcterms:modified>
  <cp:revision>6</cp:revision>
  <dc:subject/>
  <dc:title>Présentation PowerPoint</dc:title>
</cp:coreProperties>
</file>