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03338"/>
        <c:axId val="17230796"/>
      </c:barChart>
      <c:catAx>
        <c:axId val="31403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0796"/>
        <c:crosses val="autoZero"/>
        <c:auto val="1"/>
        <c:lblAlgn val="ctr"/>
        <c:lblOffset val="100"/>
        <c:noMultiLvlLbl val="0"/>
      </c:catAx>
      <c:valAx>
        <c:axId val="17230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03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D49-C555-4CCD-9E96-E379FE8F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E5F-6853-4442-A56E-E1FD8EAB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FBE-A54B-44AA-BEF1-38214D59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01F-A0DC-4F01-B75C-BBD3551C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029-F31D-4F66-B48B-44BBECF0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4BA-4550-4009-A805-7C4EDADC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0F2-5CD1-49D5-9DC6-91C9F362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C74-BB0A-4C0F-B21B-42440FB3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D8C-A8B7-4729-8992-369D7FB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501-8704-4C2B-987D-6EA5098D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F1A-F42B-415C-84A6-0B32CC7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94A-C358-4258-A4F8-87B3378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89F97-5813-45A1-A4AD-98525A6461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